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4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67.jpeg" ContentType="image/jpeg"/>
  <Override PartName="/ppt/media/image21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0.png" ContentType="image/png"/>
  <Override PartName="/ppt/media/image31.png" ContentType="image/png"/>
  <Override PartName="/ppt/media/image25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269-8509-4824-A735-B2C1F879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C3E-CC97-49DD-9D90-3E04DF9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9A5-5C64-41E6-B336-2637104E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F32-4306-44CB-9A5B-C7CE0DF8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0AC-E6F2-4B43-B597-70B9BD62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5C63-4DB3-48C6-B975-302E7D40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AE12-B208-4128-8BB8-FC5814B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1C8-D612-4033-8DF1-61346D4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F215-5424-456D-B425-5FF9461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A4EC-8F27-4801-8ED6-56257B7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4BF0-1E3B-4FA3-B5C5-87CD6E7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235-325E-4A2A-89FB-1E2A9CB7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F0E-87D6-481A-B8EE-6376E94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876-0177-41AE-9C72-97E7799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556-1778-40D9-812A-1E23689E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1B91-0868-4E5B-9993-951F0224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9BAA-F320-4A9F-9D91-B1D58C5D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796-992A-404A-9640-1C7F01A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F51-0A29-454C-8FAF-2BFDAAE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7A8-4B40-45D0-9929-6294C5E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05D-B0B4-441E-BBA2-CC46FE8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76C-67E3-4D13-BF35-218A5F4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4CD-1AE9-4BCE-B644-14FEA07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FCB-3939-4613-8E73-CB8A6B6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04840"/>
            <a:chOff x="7334280" y="-225360"/>
            <a:chExt cx="2022480" cy="200484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D447-F440-4254-A9FC-60FD9D6D09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04840"/>
            <a:chOff x="7334280" y="-225360"/>
            <a:chExt cx="2022480" cy="200484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557-05FB-45CD-87C7-D91BA90AF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68160" y="30744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imal Sci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Picture 5" descr="http://www.snellvalleyranch.com/images/beef-cattle.jpg"/>
          <p:cNvPicPr/>
          <p:nvPr/>
        </p:nvPicPr>
        <p:blipFill>
          <a:blip r:embed="rId1"/>
          <a:stretch/>
        </p:blipFill>
        <p:spPr>
          <a:xfrm rot="445800">
            <a:off x="192240" y="1133640"/>
            <a:ext cx="4333680" cy="2485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http://tmdequineuniversity.com/wp-content/uploads/horses-uhc.jpg"/>
          <p:cNvPicPr/>
          <p:nvPr/>
        </p:nvPicPr>
        <p:blipFill>
          <a:blip r:embed="rId2"/>
          <a:stretch/>
        </p:blipFill>
        <p:spPr>
          <a:xfrm rot="20789400">
            <a:off x="471600" y="3525840"/>
            <a:ext cx="3944880" cy="2911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highindexrams.files.wordpress.com/2012/06/suffolks-5.jpg"/>
          <p:cNvPicPr/>
          <p:nvPr/>
        </p:nvPicPr>
        <p:blipFill>
          <a:blip r:embed="rId3"/>
          <a:stretch/>
        </p:blipFill>
        <p:spPr>
          <a:xfrm rot="21205200">
            <a:off x="4355640" y="4191120"/>
            <a:ext cx="4700520" cy="249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cdn.attackofthecute.com/September-07-2012-20-31-30-hekrhjhrt.jpg"/>
          <p:cNvPicPr/>
          <p:nvPr/>
        </p:nvPicPr>
        <p:blipFill>
          <a:blip r:embed="rId4"/>
          <a:stretch/>
        </p:blipFill>
        <p:spPr>
          <a:xfrm rot="429000">
            <a:off x="5014440" y="1757160"/>
            <a:ext cx="365760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future of Animal Scienc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bryo Transplant - can produce 20 calves from one cow per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oning - using an animal cell to grow an identical duplicate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“Pharming” – producing animals to produce drugs and chemic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- a female bovine that has had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ll- a male bovine capable of reprodu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ifer- a young female bovine that has not had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er- a castrated male b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f- a young bovine (less than 30 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ve- the act of giving birth to a ca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n- to remove a young animal from it’s 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strum- nutrient rich milk from the mother following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ation- the period when a female produces milk after a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shen- when a female produces milk prior to giving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ll- the act of removing unproductive animals from a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w- a female hog that has given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- a male hog capable of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ilt- a young female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rrow- a young male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glets- very young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rrow- the act of giving birth to pigl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tter- a group of piglets born at on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we- a female sheep that has lam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m- a male sheep also known as bu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we lamb- a young female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ther- a castrated male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mb- a young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mbing- the act of giving birth to lamb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k- the act of removing the tail of a young la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tton- the meat of sheep anim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aring- the act of removing wool or mohair from an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ol- natural fiber produced by ov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hair- a less textured hair usually harvested from goats for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shmere- a valuable hair from cashmere goa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e- a female goat that has reproduced, also called a nan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ck- a male goat capable of reprodu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d- a young cap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dding- the act of giving birth to young cap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von- a goat grown for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e- an adult female ho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llion- a male horse capable of reproducing also called a stu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lding- a castrated 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al- a young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t- a young 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y- a young fe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ft- a horse produced for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n- a female chick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oster- a male chicken also known as a c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on- a castrated male roo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utch- a set of eggs being hatch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t- the act of losing feat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yers- poultry used to produce eg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yers- poultry used for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igree- tracking the ancestors of an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- a variety of animal with specific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 Association- a group of producers that ensure breed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odity Group- a group of producers producing a similar produ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nimal Scienc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e, management and production of domestic anim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s used for food, clothing &amp;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as the first domesticated anima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g for tracking, then he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keletal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 of bone and cartil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ives the animal structure and flexi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tects the organs of the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ts use tendons and liga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row in bones produces red blood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43000" y="17906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scular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movement for animal and supports l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s blood flowing and cells liv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ps with digestion of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a proteins source for hum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luntary and involuntary, smooth and striated, and red and wh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irculatory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rt and blood vess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teries and Ve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oxygen and nutrients to each individual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wastes from the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KNOW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-3808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Blue Whale’s heart is the same size as a VW Bug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6" name="Picture 2" descr="http://neoncstar.files.wordpress.com/2009/12/bluewhale.jpg"/>
          <p:cNvPicPr/>
          <p:nvPr/>
        </p:nvPicPr>
        <p:blipFill>
          <a:blip r:embed="rId1"/>
          <a:stretch/>
        </p:blipFill>
        <p:spPr>
          <a:xfrm>
            <a:off x="380880" y="2209680"/>
            <a:ext cx="379116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7" name="Picture 4" descr="http://static.cargurus.com/images/site/2008/03/19/11/33/1969_volkswagen_beetle-pic-37853.jpeg"/>
          <p:cNvPicPr/>
          <p:nvPr/>
        </p:nvPicPr>
        <p:blipFill>
          <a:blip r:embed="rId2"/>
          <a:stretch/>
        </p:blipFill>
        <p:spPr>
          <a:xfrm>
            <a:off x="4343400" y="3429000"/>
            <a:ext cx="3914640" cy="2809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iratory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sts of lungs and airw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necessary oxygen to bloodstr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carbon dioxide from the bloodstr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rvous and Endocrine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rvous system is brain, spinal cord, nerves and nerve end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docrine system is series of glands that secrete horm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rmones have chemical effect on body org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the bloodstream with necessary nutrients to deliver to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aks food into basic nutrients to be used by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unneeded produ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simple (monogastric) or ruminant (polygastr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- Si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uman, Pig, Dog, Horse, Bi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ingests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od is chemically broken down into elements by acid in the stom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ments are absorbed by intest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te is excre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90360" y="220968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- Rumi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, Sheep, Goats, De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ingests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men ferments cellulosic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ticulum filters conten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masum extracts water in 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omasum is true stomach where chemical breakdown takes p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roductiv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aries and testes produce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male cells are called eggs or ov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e cells are called spe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s mate and cells are comb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ch sex cell contributes one half of offspring’s D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mestication-Fun F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animals become domesticated, they become dependent on m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can’t survive in wi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poultry can’t f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ep don’t shed w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s produce 20,000 lbs milk /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rds produce 250 eggs / yr. (20 in wil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09440" y="1806480"/>
            <a:ext cx="76770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gnancy- carrying a fe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tilization-the union of the egg and sperm nucl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ption- Occurrence of ferti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ulation- Release of an ovule from the fem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ation- The time from fertilization or conception of a female until she gives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Re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rou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ycle of a female producing eg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monoestrous or polyestr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tificial Inse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ing sperm from male into fema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bryo 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tilizing many eggs from one female and placing them in host femal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Re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90360" y="220968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re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ing specific breeds to the s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ually registered with an associ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ss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xing breeds for desirable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ing 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ing purebreds to commercial animals to increase value of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t - (muscle tissue) Beef, Pork, Lamb, Goat, Poul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efficient way to get 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way to harvest some natural resources like gra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5" descr="https://encrypted-tbn3.gstatic.com/images?q=tbn:ANd9GcQg69-owfzzH1PSN-DgrJEkW_LglrOpqnRYKdJnW_V1C4rRnFbw"/>
          <p:cNvPicPr/>
          <p:nvPr/>
        </p:nvPicPr>
        <p:blipFill>
          <a:blip r:embed="rId1"/>
          <a:stretch/>
        </p:blipFill>
        <p:spPr>
          <a:xfrm>
            <a:off x="4481640" y="2414520"/>
            <a:ext cx="42685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009800" y="1806120"/>
            <a:ext cx="712440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k - inexpensive source of 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ese, ice cream, yogu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gs - pastries, mayonnaise, cust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2" name="Picture 4" descr="http://texaswic.dshs.state.tx.us/wiclessons/english/foodpackage/img/DairyGroup_498_Web.jpg"/>
          <p:cNvPicPr/>
          <p:nvPr/>
        </p:nvPicPr>
        <p:blipFill>
          <a:blip r:embed="rId1"/>
          <a:stretch/>
        </p:blipFill>
        <p:spPr>
          <a:xfrm>
            <a:off x="988920" y="3652920"/>
            <a:ext cx="3448080" cy="2114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https://encrypted-tbn0.gstatic.com/images?q=tbn:ANd9GcQYWa6kG89a5XxodfEm1IgSQ21AckHLkCkPY45c_eio8qDSsd5JQQ"/>
          <p:cNvPicPr/>
          <p:nvPr/>
        </p:nvPicPr>
        <p:blipFill>
          <a:blip r:embed="rId2"/>
          <a:stretch/>
        </p:blipFill>
        <p:spPr>
          <a:xfrm>
            <a:off x="4876920" y="3652920"/>
            <a:ext cx="3047760" cy="20286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nes - buttons, glue, mineral supplement for livestock feed (Calciu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 - chemicals, salves, creams, dressings, lubricants, soaps,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ands - medicines, food addi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lagen - (connective tissue in joints) glue &amp; gelat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stinal &amp; Stomach tissue - lunch meats, surgical sutures, strings for musical &amp; sports instruments (contents = fertiliz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57040" y="839880"/>
            <a:ext cx="5367600" cy="358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5219640" cy="36669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5715000" y="1071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ivat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1379880" y="495936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2440080" y="1522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Use a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475560" y="1066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other ani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249800" cy="34196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4730040" y="4433760"/>
            <a:ext cx="398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physically &amp; ment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ica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abilitation of disab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Animal 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des - lea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ir - wool, mohair,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 Animals - mice, rats, guinea pigs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07:10:40Z</dcterms:created>
  <dc:creator>Plentywood School</dc:creator>
  <dc:description/>
  <dc:language>en-US</dc:language>
  <cp:lastModifiedBy>Megan Cook</cp:lastModifiedBy>
  <dcterms:modified xsi:type="dcterms:W3CDTF">2015-06-18T16:19:11Z</dcterms:modified>
  <cp:revision>31</cp:revision>
  <dc:subject>animal science</dc:subject>
  <dc:title>Animal Science</dc:title>
</cp:coreProperties>
</file>