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0777-16CA-4213-A2C8-3D0E32A0E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C3CC-D3E7-41DB-9ADA-D718131B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E359-460F-421D-819D-85EAF99EC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5BDF-EFE5-42F8-B8B6-E12E4140D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E1AD-16E9-4720-964A-2B6D62A17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1736640" cy="1301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D737-DE80-4D65-A132-C0BC23D9B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677F-BECF-4DDD-9E99-9974F083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A5A7-4FBD-4394-8D97-6B000DD0C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58BE-EFDD-44B2-9C2E-C2C1261FF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8B7-96FE-4233-A26C-91704BF9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B9D-57AE-4498-B98A-5E4ED06C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4920" y="409716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750-47F1-4A3C-B323-D9DF0B45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93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F07-0E1B-4848-B301-311FB571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581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13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49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581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13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87C-9B90-4C98-8F17-A779642B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FF5A-F81C-4F07-BD49-99179CF3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0008-6D54-421E-BE14-D4D50493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DBED-2E04-4A6F-91B0-66C32A0D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3E13-9B49-41BD-AFA3-C6C0F05D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D943-01BB-41C1-BB7C-E6B24963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102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3DCD-ED3C-4F32-B267-B039885D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59A3-5CC3-4FB0-8BC4-A25A97E5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CDA-B9FC-4B34-BD1D-D128380E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93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80B0-2B57-4EEA-AA92-4F907DFF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6D69-8817-426F-A8B8-923F186B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4920" y="409716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1DC7-F11C-4663-A8E2-025CB2FB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93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07DC-755B-4F2C-BCE6-D339F32C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81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13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49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581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13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8AC-411D-41FB-B712-22F5C478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449-452E-4EE8-ADEB-FB8B8868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473-E26D-4ED0-9839-9B95E7A0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CB8-6A61-4DBD-A948-8F0403A7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102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E43-5E82-454B-B029-DAA4C33F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F63-BBBA-4C57-B526-1953C89C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93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F68-9EEE-4807-A2C2-DA8BEDCF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B93-DA89-4849-B3B9-A6C0C312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5AFD-731E-4A9B-8175-DF3A02E6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EF18-84C8-4FFE-8860-1AADF4D47A48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50000"/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121896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ility and Internet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124080" y="3504960"/>
            <a:ext cx="5105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 5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i Re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Stat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, experts, user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review, cognitive walkthrough, survey, focus group, interview, observation, assess learning/impac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valua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bby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&amp;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www.webbyawards.com/main/webby_awards/criteria.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MMI: Web usability 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ility and Internet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interface design for us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users to fluently achieve particular goals in some dom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mless integration of content and control, including layout of information and navi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chnology; depends on deep understanding of human elements withi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usable and unusable interfa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ility in Interne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technic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hard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sp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conten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an Internet-based education site us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an Internet-based education site unus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an Internet-based education site learn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Identify top 3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to Support Us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ear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ility Design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ivity (e.g. ‘shortcut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(provide clear visual mess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v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ness (feed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-specific support for user’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3" name=""/>
          <p:cNvCxnSpPr/>
          <p:nvPr/>
        </p:nvCxnSpPr>
        <p:spPr>
          <a:xfrm>
            <a:off x="4800240" y="655272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ility via User-Centere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philoso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focus on users and their concrete needs -- designers contact re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and continual user testing -- empirically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e design with progressive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n expanded view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satisfying concrete needs of re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6" name=""/>
          <p:cNvCxnSpPr/>
          <p:nvPr/>
        </p:nvCxnSpPr>
        <p:spPr>
          <a:xfrm>
            <a:off x="4800240" y="576540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of User-Centere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cycles of design, enactment, analysis, and rede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/develop rapid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934320" y="2742480"/>
            <a:ext cx="1828800" cy="251460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489240 h 2514600"/>
              <a:gd name="textAreaBottom" fmla="*/ 15742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4" stAng="-5400000" swAng="5400000"/>
                <a:lnTo>
                  <a:pt x="21600" y="9318"/>
                </a:lnTo>
                <a:arcTo wR="21600" hR="8414" stAng="0" swAng="2866341"/>
                <a:lnTo>
                  <a:pt x="7200" y="21119"/>
                </a:lnTo>
                <a:lnTo>
                  <a:pt x="0" y="17280"/>
                </a:lnTo>
                <a:lnTo>
                  <a:pt x="7200" y="12479"/>
                </a:lnTo>
                <a:lnTo>
                  <a:pt x="7200" y="16347"/>
                </a:lnTo>
                <a:arcTo wR="21600" hR="8414" stAng="2866341" swAng="-2794309"/>
                <a:lnTo>
                  <a:pt x="21569" y="8866"/>
                </a:lnTo>
                <a:arcTo wR="21600" hR="8414" stAng="-72032" swAng="-5327968"/>
                <a:close/>
              </a:path>
              <a:path fill="darkenLess" w="21600" h="21600">
                <a:moveTo>
                  <a:pt x="0" y="0"/>
                </a:moveTo>
                <a:arcTo wR="21600" hR="8414" stAng="-5400000" swAng="5400000"/>
                <a:lnTo>
                  <a:pt x="21600" y="9318"/>
                </a:lnTo>
                <a:arcTo wR="21600" hR="8414" stAng="0" swAng="-72032"/>
                <a:lnTo>
                  <a:pt x="21569" y="8866"/>
                </a:lnTo>
                <a:arcTo wR="21600" hR="8414" stAng="-72032" swAng="-5327968"/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CD: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ssess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learning objectiv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web resources help students lear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users have reliable a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rapid prot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/paper mock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pha, beta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ee next slid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, categorize, diagnose, priorit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9:28:26Z</dcterms:created>
  <dc:creator>Daren Olson</dc:creator>
  <dc:description/>
  <dc:language>en-US</dc:language>
  <cp:lastModifiedBy>Daren Olson</cp:lastModifiedBy>
  <dcterms:modified xsi:type="dcterms:W3CDTF">2003-06-24T21:18:03Z</dcterms:modified>
  <cp:revision>7</cp:revision>
  <dc:subject/>
  <dc:title>PowerPoint Presentation</dc:title>
</cp:coreProperties>
</file>