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0A7-AAA6-4C43-8CAA-524FE3EB3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2C2-BC7E-4853-B882-8ECBA3D3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1127160" cy="844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38E-B6D9-40F0-99AB-56710E61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E0A-6C27-4739-B716-48C0698F6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21C-2188-495C-8F19-58AE67BF0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F05A-59FE-4203-95E1-9E68D0B8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BB3-AB99-4EB2-A021-CDCD26026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E0A-49F6-4F78-9A52-67EB0E363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4ACA-C638-47A2-A0EC-B937FE62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0B8-68CD-4FC6-B5AA-768D6633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915-5D9C-43C9-91B1-EF179A3F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95D-2039-49AC-94BA-BD159F94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581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13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581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13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A31-F1E6-4A43-AB46-FFBC6DE7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A1D9-33A5-46A5-8721-BEB17C6A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6382-2752-4EA0-8290-9D8A493A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170-9F96-4663-BAA0-C4AEFB8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C58E-9F9C-4805-9A36-F4E57A7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315-ABF5-4966-BAFA-B9A96CEC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2EFF-357D-474F-A32F-6DAB7A6B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BA1-7009-491B-84C2-B2A80EE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4E8-9B34-49F8-A51D-90EC9AAD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0F0-3A4F-4CA5-9CC2-0072CB0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3952-7FE6-4006-900B-60306BF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9EA-CC89-40D2-BCC8-9D4D52D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03D-3CC3-4ED4-BCD5-DBDA83D3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81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1320" y="182844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581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1320" y="4097160"/>
            <a:ext cx="244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3C1-DF48-49C3-9FBC-41D98FFD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E63-5DA1-4619-80D2-B08EE58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4CC-93D1-42E3-97D5-200C44F4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F37-7696-4B45-9928-5536C71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10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2E9-360F-4EFB-B84A-C9C7027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031-3FE5-4BB1-AD2E-2E88B50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9320" y="409716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B43-25F8-45E2-925D-13CA9B8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9320" y="1828440"/>
            <a:ext cx="369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097160"/>
            <a:ext cx="7580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E7F-7B6C-4EC5-AEBF-40076B2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665-7504-4FB6-A946-909229B7C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E716-E9D0-4DCD-A21F-7253BFA32835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50000"/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appedin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igns for Online 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7760" y="2743200"/>
            <a:ext cx="5105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-based communication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…and community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524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Rec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h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80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78960" y="1600200"/>
            <a:ext cx="7474320" cy="4863960"/>
            <a:chOff x="678960" y="1600200"/>
            <a:chExt cx="7474320" cy="4863960"/>
          </a:xfrm>
        </p:grpSpPr>
        <p:sp>
          <p:nvSpPr>
            <p:cNvPr id="95" name=""/>
            <p:cNvSpPr/>
            <p:nvPr/>
          </p:nvSpPr>
          <p:spPr>
            <a:xfrm>
              <a:off x="2679480" y="2743200"/>
              <a:ext cx="5473800" cy="372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40240" y="2743200"/>
              <a:ext cx="0" cy="3720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79480" y="4565520"/>
              <a:ext cx="54738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4400" y="3432240"/>
              <a:ext cx="893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60280" y="5337000"/>
              <a:ext cx="136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ffe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9520" y="2106720"/>
              <a:ext cx="893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6680" y="2133720"/>
              <a:ext cx="136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ffe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120" y="1600200"/>
              <a:ext cx="172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960" y="4267080"/>
              <a:ext cx="1085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234720"/>
            <a:ext cx="68580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in Online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ing-lists vs. bulletin boards: pros and c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 tools: pros and c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anonymous vs. pseudo-anonymous vs anonymous: pros and c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and monito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moder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/threade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(date, subje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person s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13372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81080"/>
            <a:ext cx="990720" cy="990720"/>
          </a:xfrm>
          <a:custGeom>
            <a:avLst/>
            <a:gdLst>
              <a:gd name="textAreaLeft" fmla="*/ 0 w 990720"/>
              <a:gd name="textAreaRight" fmla="*/ 991080 w 99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1981080"/>
            <a:ext cx="1067040" cy="10670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828800"/>
            <a:ext cx="1747800" cy="144288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4038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80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410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5410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6576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95280" y="3352680"/>
          <a:ext cx="7491600" cy="32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749160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pe with increasing number of threads, people may speci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ation can lead to community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/Audio Con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ing over Inter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often include chat, whiteboard, application sharing, video/audio conferen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Netmeeting, CU-SeeMe, Sorensen Vision, ProShar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experien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a site “stick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learning, peer discussions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sp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: spatial metaphor to ease the transition from face2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34720"/>
            <a:ext cx="693396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for 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00200" y="2053800"/>
            <a:ext cx="685800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in virtual communities do just about everything people do in real life but we leave our bodies behind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-H. Rhein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ications for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10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for 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80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hared participatory 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understood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al respect, tolerance, and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but not continu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mal and inform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utsiders for complementary insight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  <a:hlinkClick r:id="rId1"/>
              </a:rPr>
              <a:t>www.tappedi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create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9:28:26Z</dcterms:created>
  <dc:creator>Daren Olson</dc:creator>
  <dc:description/>
  <dc:language>en-US</dc:language>
  <cp:lastModifiedBy>Daren Olson</cp:lastModifiedBy>
  <dcterms:modified xsi:type="dcterms:W3CDTF">2003-06-23T21:40:28Z</dcterms:modified>
  <cp:revision>6</cp:revision>
  <dc:subject/>
  <dc:title>PowerPoint Presentation</dc:title>
</cp:coreProperties>
</file>