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106B-B590-4E4A-80DE-A6DD714B0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03D5-2301-4544-A3C1-C8ED2D84B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71D3-D5AA-445F-B505-06C702B27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A50A-53F6-41CC-9C6A-06A48F865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3CBF-6675-42BA-9919-CC31FEFD4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AC3E-4359-4AEA-A075-6DC30D360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6F04-5B95-4C05-BCD3-4D320E8D0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290C-717C-43C6-A28C-B457E0C51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059C-2EFB-49D1-8BC5-4DA9E15BC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1736640" cy="1301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05B5-24FF-42E3-929A-F0BE9C4CA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1736640" cy="1301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19F6-BBD2-4E9F-89B4-9F5BE04EE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7113-0C7C-4AD7-BA13-3A0EBF054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7EB8-C7B1-4EAC-9544-0083C1E94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285E-2934-4C86-AA8F-08134BCCD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8C64-71CA-4569-99D5-7097CA25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4644-72B6-4B27-8365-952DF601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796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796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E3F1-0D94-4D77-8DF8-3C7F8F60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328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092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328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092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C025-B351-4F7B-962B-EC6C805D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9509-4704-4E91-9691-7837FF8F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1E29-1F95-48BB-A5AA-540EDF58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095A-C1EE-4992-ADF0-8F7B9350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7796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9345-1059-457D-9616-AB2B07C9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C056-E530-4186-AF03-A3FBB0A8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1028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436A-A0AF-42D3-A113-85F21269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7CFB-46FD-4C55-A43E-8C255229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C47C-6DDE-4DBF-87B4-A1A69942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7796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1B5C-765C-404E-AA11-B3E6FDB7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7796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DBBB-2AE6-40C4-9A12-72A5ADD6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D18A-D806-487B-9688-020DE5EA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7796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577F-DA8E-427D-8E61-687A90E3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2328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092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92328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5092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7113-0861-44C4-9C1D-2CCD945D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B878-324F-4362-B390-AF31A6F6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796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215E-7719-4D40-A354-04E57B28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8691-D709-4680-8FE6-6C717031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1028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C708-58F7-4AD9-A05E-3E0551BB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4B76-FD68-4A8A-9560-204FC441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796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56EA-A0A6-4D6B-A279-1E058B1C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32FD-4B4C-4C3C-8607-31E58C59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0c0c0"/>
              </a:buClr>
              <a:buSzPct val="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SzPct val="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BC55-D6E4-4786-8E70-4F332D2E6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61960" y="685440"/>
            <a:ext cx="64767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ACD5-4D83-49ED-9709-2B6192BEBD82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0c0c0"/>
              </a:buClr>
              <a:buSzPct val="50000"/>
              <a:buFont typeface="Arial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SzPct val="55000"/>
              <a:buFont typeface="Arial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SzPct val="50000"/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61960" y="1218960"/>
            <a:ext cx="64767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ine Educa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124080" y="3504960"/>
            <a:ext cx="5105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 5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i Re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ah Stat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5280" y="2014560"/>
            <a:ext cx="777240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mouse over ‘File’ menu ite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 left mouse butt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‘Open …’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nline course containing instruction on how to write an annual report for Company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hat ways are the objects differ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y reus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y support lea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usabilit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u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al content/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ersit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o-economic status (digital div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and ce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lectual property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u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903320"/>
            <a:ext cx="777240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biquitous computing (‘m-learning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igent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nfusing ter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-based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(dis)advantages, design issues, reusability, diversity issues,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ture of online learn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ge, location, content, impacts, appeal, effectiveness, access, dropout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ly a key area for instructional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.2 million online learners in 2002 -- 33% growth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er View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81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delivery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er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ra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 and r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5744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s more to deve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new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d val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re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er View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81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time, an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ra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paced, self-dir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acces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5744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imidating 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s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ng and lon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elf-discipline required (motivation, metacognition, and collabo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406480" y="6308640"/>
            <a:ext cx="36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hickering &amp; Reisser, 199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Issu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usability (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edia appropr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close student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 expectations up 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timely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asize time-on-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consistent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Issu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52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a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peer communication &amp;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ness (assess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ness (transf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-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for Reus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following 3 ‘objects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are they differe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y reus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y support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nline module containing instruction on how to create and save documents in Microsoft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the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to measure mastery of the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3T19:28:26Z</dcterms:created>
  <dc:creator>Daren Olson</dc:creator>
  <dc:description/>
  <dc:language>en-US</dc:language>
  <cp:lastModifiedBy>Daren Olson</cp:lastModifiedBy>
  <dcterms:modified xsi:type="dcterms:W3CDTF">2003-06-24T21:19:29Z</dcterms:modified>
  <cp:revision>7</cp:revision>
  <dc:subject/>
  <dc:title>PowerPoint Presentation</dc:title>
</cp:coreProperties>
</file>