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17CD-151C-416D-AB0F-6FFED485C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48DA-783D-4061-9F0D-2FD84AA1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61760" y="220932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DEE9-2BFA-4082-A09E-EB91FB8DE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61760" y="220932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FEAD-4F67-4E2C-B4E1-4209ABA7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9072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7CC7-5634-44CA-9744-C069E5AA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D095-83CF-416D-BBB1-884B4ADF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950-C8BA-43A1-8067-938FFF17B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5D24-DBD8-436E-9258-C0EDB2988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CD8-C68D-400D-9F4F-37FB3E14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61760" y="220932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4FDF-9A5E-453F-ABC1-66E0AA428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61760" y="220932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62C-C031-407A-982D-41D947EF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61760" y="220932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E91-AFD7-49FD-B112-62C3D0E3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09716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0DC-EC9E-4E55-BB49-591D2B21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984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845-C2ED-440B-B903-59850065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1440" y="18284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7960" y="18284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09716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1440" y="409716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7960" y="409716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EC6-0B04-45CF-87B5-1B76546B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4BB9-5869-4844-979F-79E988E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0312-5E57-4E1E-B5C4-09A848C3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2DB-9707-4FFA-A196-030BA8F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96EF-5FF0-4DD3-9C97-69AE68B1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D8C9-D698-4DE9-AF27-B8075B6D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9B68-D2A6-4C03-BA96-0704AD3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65E4-F296-469E-B37B-3854400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D9B-9F45-4DB8-BB23-7B81BE77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984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B325-069F-4DF2-9396-88AB8F0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8D70-EFB1-4907-9257-453562E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09716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A679-E842-4E28-B0B9-19FD9D8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984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45BC-3D5D-4128-B858-D318675A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71440" y="18284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7960" y="18284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09716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71440" y="409716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7960" y="409716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3109-1F95-4FFE-9CBE-D008E80F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82E-A16D-4A33-B9D7-AEE4C75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73D-060A-41A8-96F4-564B36D0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8FC-2614-4990-8432-52D6F33B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0B4-3B8D-4F02-8F3B-0688B3F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E16-4C15-4A7E-9E7A-6BA6572D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9840" y="409716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467-C09F-4B39-A064-547258D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18284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6C7-822E-4462-B4E4-1E3C249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0AF0-AA44-4ABB-B621-5470067B6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550F-DE50-454C-83D4-ADC3BCFF0C53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13712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24080" y="365760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 5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 R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LTSC LO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syntax and semantics of learn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 categories, 84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(title, description,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cycle (version,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metadata (contributor,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(format, 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(interactivity type/level, age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s (cost, copy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sd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LTSC PAP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syntax and semantics of learner model, which characterizes a learner and his/her knowledge/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folio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ADE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ll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Learning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Not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y o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and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and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d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or / Desig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bulk upload and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across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, comment, track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racking and g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nline catalog, schedule and registration (e.g., www.usu.edu) 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depth course websites that augment learning and course management 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LMS (content, registration, grades, program of study, catalog …) 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L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LMS help students, faculty, sta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, interaction, assessment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with existing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, course catalog, grade databases, content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with e-comme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book publishers, digital librari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compat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content and learner info between 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/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anages LMS? Platform, cost, technical competency require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and stud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, curriculum development,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 for access, testin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for grades, credits, class lists,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content (‘learning objects’) across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learner information across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tandard descriptions and interoperability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bodies: OKI, SCORM, LTS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scribe learning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scribe lear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=&gt;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9:28:26Z</dcterms:created>
  <dc:creator>Daren Olson</dc:creator>
  <dc:description/>
  <dc:language>en-US</dc:language>
  <cp:lastModifiedBy>Daren Olson</cp:lastModifiedBy>
  <dcterms:modified xsi:type="dcterms:W3CDTF">2003-06-23T21:39:55Z</dcterms:modified>
  <cp:revision>5</cp:revision>
  <dc:subject/>
  <dc:title>PowerPoint Presentation</dc:title>
</cp:coreProperties>
</file>