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5E7-8BA4-4E9E-9E19-09C4C288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CB6A-F084-476F-87E5-29BBE978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FA1E-A6E1-4A15-90C8-E23160D6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3863-6FE9-428A-9192-75AC8C2C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B730-B7C5-45BB-BA04-E9619CBE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E433-F1A4-43E9-B65A-82B3B437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99BC-F216-49B6-8076-DF96FA31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C42F-6216-40A3-9C75-951117B7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6AC7-0B49-452D-AF8E-95C79BD8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C0ED-1D00-4692-8128-73D06A10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0372-EE34-490A-BF63-38918F53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9A16-E1BD-410B-B7A7-FA267458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37A2-CB02-439A-8059-17CD2F6B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9B48-0F13-45DC-B09B-5B89D7FB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D439-C4B2-4EAE-9BF6-746C70CA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53F3-5457-4737-BA47-7D862895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7E97-7391-4867-B0A9-FE25AE71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1B30-24CE-4467-B00B-7FF4344E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7F6-B5BA-4052-AF57-AC1BA890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2F5-A2D9-4B2C-8934-C3D96869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96CC-0145-4768-8403-C53188E7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AB5-DF92-4253-81E1-99507681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EEF-28D2-47CF-B0D5-ED7C8E15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3E72-2783-4998-8BCD-8BAC36B8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1828800" cy="1828800"/>
          </a:xfrm>
          <a:prstGeom prst="ellipse">
            <a:avLst/>
          </a:prstGeom>
          <a:noFill/>
          <a:ln w="1260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a5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a5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2c2c62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A196-F83E-4BD8-BD39-17833A703974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6477120"/>
            <a:ext cx="9154440" cy="398880"/>
            <a:chOff x="0" y="6477120"/>
            <a:chExt cx="9154440" cy="398880"/>
          </a:xfrm>
        </p:grpSpPr>
        <p:sp>
          <p:nvSpPr>
            <p:cNvPr id="11" name=""/>
            <p:cNvSpPr/>
            <p:nvPr/>
          </p:nvSpPr>
          <p:spPr>
            <a:xfrm>
              <a:off x="0" y="6568920"/>
              <a:ext cx="9144000" cy="228240"/>
            </a:xfrm>
            <a:prstGeom prst="rect">
              <a:avLst/>
            </a:prstGeom>
            <a:solidFill>
              <a:srgbClr val="2c2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772760" y="647712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Utah Stat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B32C-6A81-476A-9D12-57DC7E8896FD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914400"/>
            <a:ext cx="2514600" cy="2514600"/>
          </a:xfrm>
          <a:prstGeom prst="ellipse">
            <a:avLst/>
          </a:prstGeom>
          <a:noFill/>
          <a:ln w="1260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76520"/>
            <a:ext cx="4724280" cy="1143000"/>
          </a:xfrm>
          <a:prstGeom prst="rect">
            <a:avLst/>
          </a:prstGeom>
          <a:solidFill>
            <a:srgbClr val="a5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1676520"/>
            <a:ext cx="47242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a5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228600" cy="14493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6477120"/>
            <a:ext cx="9154440" cy="398880"/>
            <a:chOff x="0" y="6477120"/>
            <a:chExt cx="9154440" cy="398880"/>
          </a:xfrm>
        </p:grpSpPr>
        <p:sp>
          <p:nvSpPr>
            <p:cNvPr id="58" name=""/>
            <p:cNvSpPr/>
            <p:nvPr/>
          </p:nvSpPr>
          <p:spPr>
            <a:xfrm>
              <a:off x="0" y="6568920"/>
              <a:ext cx="9144000" cy="228240"/>
            </a:xfrm>
            <a:prstGeom prst="rect">
              <a:avLst/>
            </a:prstGeom>
            <a:solidFill>
              <a:srgbClr val="2c2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72760" y="647712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Utah Stat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rag and Drop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ing if/else and nesting if/else block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ynamic Text Field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g and dr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erminolog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ragga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rop Targe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ust use movie clips.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stance nam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sting code b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car ==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“out of gas”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|| car ==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“broken”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|| pool =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“closed”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 {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// Can you spot the logic error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// If the car is out of gas OR the car is broken OR th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// pool is closed, then no swimming lesson.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rachel ==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“chicken”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 {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// Went to swimming lessons, but Rachel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// is chicken, so she is not swimming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// Went to swimming lessons, Rachel is willin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// to swim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text f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ext can be altered using actionScrip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yntax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&lt;instanceNameOfTextField&gt;.text =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“&lt;new text&gt;”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_root.feedbackText.text =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“Wrong!  Don’t quit your day job.”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tting Movie Clips to M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e the startDrag() func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lash syntax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ress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{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tartDrag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important functions/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topDrag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);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// sets a movie clip “down”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_x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;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// the x coordinate of an object*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_y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;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// the y coordinate of an object*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val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movieClipInstance.</a:t>
            </a:r>
            <a:r>
              <a:rPr b="0" i="1" lang="en-US" sz="2800" spc="-1" strike="noStrike">
                <a:solidFill>
                  <a:srgbClr val="0033cc"/>
                </a:solidFill>
                <a:latin typeface="Arial"/>
              </a:rPr>
              <a:t>_droptarget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;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/* </a:t>
            </a: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returns the absolute dot syntax reference to a movie clip’s drop target (from the top of the heirarchy)  For example:  _root.semiDryBottle. */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ext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; </a:t>
            </a: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// the contents of a text field*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20:32:52Z</dcterms:created>
  <dc:creator>aew2</dc:creator>
  <dc:description/>
  <dc:language>en-US</dc:language>
  <cp:lastModifiedBy>Andy Walker</cp:lastModifiedBy>
  <dcterms:modified xsi:type="dcterms:W3CDTF">2006-02-24T16:53:13Z</dcterms:modified>
  <cp:revision>348</cp:revision>
  <dc:subject/>
  <dc:title>Delphi Surveys:  An Alternative Approach to Needs Assessmen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66617349</vt:r8>
  </property>
  <property fmtid="{D5CDD505-2E9C-101B-9397-08002B2CF9AE}" pid="3" name="_AuthorEmail">
    <vt:lpwstr>jennifer.m.brill@lehigh.edu</vt:lpwstr>
  </property>
  <property fmtid="{D5CDD505-2E9C-101B-9397-08002B2CF9AE}" pid="4" name="_AuthorEmailDisplayName">
    <vt:lpwstr>Jennifer M. Brill</vt:lpwstr>
  </property>
  <property fmtid="{D5CDD505-2E9C-101B-9397-08002B2CF9AE}" pid="5" name="_EmailSubject">
    <vt:lpwstr>ISPI Presentation FINAL</vt:lpwstr>
  </property>
  <property fmtid="{D5CDD505-2E9C-101B-9397-08002B2CF9AE}" pid="6" name="_PreviousAdHocReviewCycleID">
    <vt:r8>856869919</vt:r8>
  </property>
  <property fmtid="{D5CDD505-2E9C-101B-9397-08002B2CF9AE}" pid="7" name="_ReviewingToolsShownOnce">
    <vt:lpwstr/>
  </property>
</Properties>
</file>