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F2E-CCB9-4582-8770-788A18EB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4419-A072-4D8B-8CD4-C8C63AE9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294C-41B5-4608-8346-1EFE7197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CC7A-46D9-46EB-BC07-0E1BF4FD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FB12-B882-4A6C-AFC1-32896D16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77A7-B13C-44C4-BE3F-38301814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9088-6377-4DD9-87ED-157BB176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2C67-B0E6-4712-963D-B249C6EE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86BB-A4B7-4371-ADEB-8239BA51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4053-3BBB-4F13-9595-835B58DA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50CD-D19D-4932-98DA-219FE227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B4B4-C144-4ED0-AD26-47F95734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DBBF-3024-4196-8178-B35449DF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FF27-AE31-48FE-A59B-09803EA7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2E2C-FB69-4524-9681-4B43C794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79D7-2233-411A-BD5B-7D190C2F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E9E1-C673-45E8-A481-89E06278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BAD7-894E-49FD-8CD9-D0019F2A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9440-9406-469B-91C1-40013DB7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01C3-670A-4883-BF2A-86D9D7E8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95F2-795C-4BA1-81FE-9DDBBE7C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438D-1CC9-4BBD-B468-5BDEBEF6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C8E-B3ED-4A6B-9E95-E3DEE565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1E95-361E-4C69-AC9D-1175DE6D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1828800" cy="1828800"/>
          </a:xfrm>
          <a:prstGeom prst="ellipse">
            <a:avLst/>
          </a:prstGeom>
          <a:noFill/>
          <a:ln w="1260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a5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a5d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2c2c62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51C5-589C-49CD-BCC5-628CA53DED92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6477120"/>
            <a:ext cx="9154440" cy="398880"/>
            <a:chOff x="0" y="6477120"/>
            <a:chExt cx="9154440" cy="398880"/>
          </a:xfrm>
        </p:grpSpPr>
        <p:sp>
          <p:nvSpPr>
            <p:cNvPr id="11" name=""/>
            <p:cNvSpPr/>
            <p:nvPr/>
          </p:nvSpPr>
          <p:spPr>
            <a:xfrm>
              <a:off x="0" y="6568920"/>
              <a:ext cx="9144000" cy="228240"/>
            </a:xfrm>
            <a:prstGeom prst="rect">
              <a:avLst/>
            </a:prstGeom>
            <a:solidFill>
              <a:srgbClr val="2c2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772760" y="6477120"/>
              <a:ext cx="138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Utah State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86E2-FE7A-4429-B65C-69E50A2F72A3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914400"/>
            <a:ext cx="2514600" cy="2514600"/>
          </a:xfrm>
          <a:prstGeom prst="ellipse">
            <a:avLst/>
          </a:prstGeom>
          <a:noFill/>
          <a:ln w="1260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76520"/>
            <a:ext cx="4724280" cy="1143000"/>
          </a:xfrm>
          <a:prstGeom prst="rect">
            <a:avLst/>
          </a:prstGeom>
          <a:solidFill>
            <a:srgbClr val="a5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1676520"/>
            <a:ext cx="472428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a5d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228600" cy="14493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6477120"/>
            <a:ext cx="9154440" cy="398880"/>
            <a:chOff x="0" y="6477120"/>
            <a:chExt cx="9154440" cy="398880"/>
          </a:xfrm>
        </p:grpSpPr>
        <p:sp>
          <p:nvSpPr>
            <p:cNvPr id="58" name=""/>
            <p:cNvSpPr/>
            <p:nvPr/>
          </p:nvSpPr>
          <p:spPr>
            <a:xfrm>
              <a:off x="0" y="6568920"/>
              <a:ext cx="9144000" cy="228240"/>
            </a:xfrm>
            <a:prstGeom prst="rect">
              <a:avLst/>
            </a:prstGeom>
            <a:solidFill>
              <a:srgbClr val="2c2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72760" y="6477120"/>
              <a:ext cx="138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Utah State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rawing tool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ay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roup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Keyfram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weening/Anim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ctor graphics supported by Flash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828800"/>
          <a:ext cx="7770960" cy="4392720"/>
        </p:xfrm>
        <a:graphic>
          <a:graphicData uri="http://schemas.openxmlformats.org/drawingml/2006/table">
            <a:tbl>
              <a:tblPr/>
              <a:tblGrid>
                <a:gridCol w="6096240"/>
                <a:gridCol w="914400"/>
                <a:gridCol w="76032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Type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PC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ac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acromedia FreeHand (.fh)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x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x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dobe Acrobat (.pdf)*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x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x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PICT image (.pct, .pict)*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x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x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PNG image (.png) – Fireworks*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x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x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Windows Metafile/Enhanced Metafile (.wmf/.emf)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x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dobe Illustrator – version 9 or 10* (.ai, .eps)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x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x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Flash Movie (.swf, .spl)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x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x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fr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3321000" cy="1717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5840" y="3352680"/>
            <a:ext cx="1817640" cy="2514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581280" y="33526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Verdana"/>
              </a:rPr>
              <a:t>Frame spa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15160" y="2971800"/>
            <a:ext cx="2328840" cy="3149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83520" y="548640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Verdana"/>
              </a:rPr>
              <a:t>end (blank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320" y="5613480"/>
            <a:ext cx="23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Verdana"/>
              </a:rPr>
              <a:t>keyframe (blank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2514600"/>
            <a:ext cx="2210040" cy="1752480"/>
          </a:xfrm>
          <a:custGeom>
            <a:avLst/>
            <a:gdLst/>
            <a:ahLst/>
            <a:rect l="l" t="t" r="r" b="b"/>
            <a:pathLst>
              <a:path w="1392" h="904">
                <a:moveTo>
                  <a:pt x="0" y="40"/>
                </a:moveTo>
                <a:cubicBezTo>
                  <a:pt x="164" y="20"/>
                  <a:pt x="328" y="0"/>
                  <a:pt x="480" y="40"/>
                </a:cubicBezTo>
                <a:cubicBezTo>
                  <a:pt x="632" y="80"/>
                  <a:pt x="760" y="136"/>
                  <a:pt x="912" y="280"/>
                </a:cubicBezTo>
                <a:cubicBezTo>
                  <a:pt x="1064" y="424"/>
                  <a:pt x="1296" y="704"/>
                  <a:pt x="1392" y="904"/>
                </a:cubicBezTo>
              </a:path>
            </a:pathLst>
          </a:custGeom>
          <a:noFill/>
          <a:ln w="38160">
            <a:solidFill>
              <a:srgbClr val="cc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143000" y="2666880"/>
            <a:ext cx="2209680" cy="1752840"/>
          </a:xfrm>
          <a:custGeom>
            <a:avLst/>
            <a:gdLst/>
            <a:ahLst/>
            <a:rect l="l" t="t" r="r" b="b"/>
            <a:pathLst>
              <a:path w="1392" h="904">
                <a:moveTo>
                  <a:pt x="0" y="40"/>
                </a:moveTo>
                <a:cubicBezTo>
                  <a:pt x="164" y="20"/>
                  <a:pt x="328" y="0"/>
                  <a:pt x="480" y="40"/>
                </a:cubicBezTo>
                <a:cubicBezTo>
                  <a:pt x="632" y="80"/>
                  <a:pt x="760" y="136"/>
                  <a:pt x="912" y="280"/>
                </a:cubicBezTo>
                <a:cubicBezTo>
                  <a:pt x="1064" y="424"/>
                  <a:pt x="1296" y="704"/>
                  <a:pt x="1392" y="904"/>
                </a:cubicBezTo>
              </a:path>
            </a:pathLst>
          </a:custGeom>
          <a:noFill/>
          <a:ln w="38160">
            <a:solidFill>
              <a:srgbClr val="cc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971800"/>
            <a:ext cx="228600" cy="45720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288"/>
                </a:moveTo>
                <a:cubicBezTo>
                  <a:pt x="108" y="264"/>
                  <a:pt x="72" y="240"/>
                  <a:pt x="48" y="192"/>
                </a:cubicBezTo>
                <a:cubicBezTo>
                  <a:pt x="24" y="144"/>
                  <a:pt x="8" y="48"/>
                  <a:pt x="0" y="0"/>
                </a:cubicBezTo>
              </a:path>
            </a:pathLst>
          </a:custGeom>
          <a:solidFill>
            <a:srgbClr val="800000"/>
          </a:solidFill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409360" y="2971800"/>
            <a:ext cx="228600" cy="45720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288"/>
                </a:moveTo>
                <a:cubicBezTo>
                  <a:pt x="108" y="264"/>
                  <a:pt x="72" y="240"/>
                  <a:pt x="48" y="192"/>
                </a:cubicBezTo>
                <a:cubicBezTo>
                  <a:pt x="24" y="144"/>
                  <a:pt x="8" y="48"/>
                  <a:pt x="0" y="0"/>
                </a:cubicBezTo>
              </a:path>
            </a:pathLst>
          </a:custGeom>
          <a:solidFill>
            <a:srgbClr val="800000"/>
          </a:solidFill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6480" y="2895480"/>
            <a:ext cx="2100240" cy="302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565360" y="1676520"/>
            <a:ext cx="3759120" cy="1787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824520" y="2895480"/>
            <a:ext cx="2298960" cy="3378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fr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3526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Verdana"/>
              </a:rPr>
              <a:t>Frame spa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85680" y="548640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Verdana"/>
              </a:rPr>
              <a:t>end (filled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9840" y="5613480"/>
            <a:ext cx="22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Verdana"/>
              </a:rPr>
              <a:t>keyframe (filled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2514600"/>
            <a:ext cx="2210040" cy="1752480"/>
          </a:xfrm>
          <a:custGeom>
            <a:avLst/>
            <a:gdLst/>
            <a:ahLst/>
            <a:rect l="l" t="t" r="r" b="b"/>
            <a:pathLst>
              <a:path w="1392" h="904">
                <a:moveTo>
                  <a:pt x="0" y="40"/>
                </a:moveTo>
                <a:cubicBezTo>
                  <a:pt x="164" y="20"/>
                  <a:pt x="328" y="0"/>
                  <a:pt x="480" y="40"/>
                </a:cubicBezTo>
                <a:cubicBezTo>
                  <a:pt x="632" y="80"/>
                  <a:pt x="760" y="136"/>
                  <a:pt x="912" y="280"/>
                </a:cubicBezTo>
                <a:cubicBezTo>
                  <a:pt x="1064" y="424"/>
                  <a:pt x="1296" y="704"/>
                  <a:pt x="1392" y="904"/>
                </a:cubicBezTo>
              </a:path>
            </a:pathLst>
          </a:custGeom>
          <a:noFill/>
          <a:ln w="38160">
            <a:solidFill>
              <a:srgbClr val="cc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143000" y="2666880"/>
            <a:ext cx="2209680" cy="1752840"/>
          </a:xfrm>
          <a:custGeom>
            <a:avLst/>
            <a:gdLst/>
            <a:ahLst/>
            <a:rect l="l" t="t" r="r" b="b"/>
            <a:pathLst>
              <a:path w="1392" h="904">
                <a:moveTo>
                  <a:pt x="0" y="40"/>
                </a:moveTo>
                <a:cubicBezTo>
                  <a:pt x="164" y="20"/>
                  <a:pt x="328" y="0"/>
                  <a:pt x="480" y="40"/>
                </a:cubicBezTo>
                <a:cubicBezTo>
                  <a:pt x="632" y="80"/>
                  <a:pt x="760" y="136"/>
                  <a:pt x="912" y="280"/>
                </a:cubicBezTo>
                <a:cubicBezTo>
                  <a:pt x="1064" y="424"/>
                  <a:pt x="1296" y="704"/>
                  <a:pt x="1392" y="904"/>
                </a:cubicBezTo>
              </a:path>
            </a:pathLst>
          </a:custGeom>
          <a:noFill/>
          <a:ln w="38160">
            <a:solidFill>
              <a:srgbClr val="cc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2971800"/>
            <a:ext cx="228600" cy="45720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288"/>
                </a:moveTo>
                <a:cubicBezTo>
                  <a:pt x="108" y="264"/>
                  <a:pt x="72" y="240"/>
                  <a:pt x="48" y="192"/>
                </a:cubicBezTo>
                <a:cubicBezTo>
                  <a:pt x="24" y="144"/>
                  <a:pt x="8" y="48"/>
                  <a:pt x="0" y="0"/>
                </a:cubicBezTo>
              </a:path>
            </a:pathLst>
          </a:custGeom>
          <a:solidFill>
            <a:srgbClr val="800000"/>
          </a:solidFill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409360" y="2971800"/>
            <a:ext cx="228600" cy="45720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288"/>
                </a:moveTo>
                <a:cubicBezTo>
                  <a:pt x="108" y="264"/>
                  <a:pt x="72" y="240"/>
                  <a:pt x="48" y="192"/>
                </a:cubicBezTo>
                <a:cubicBezTo>
                  <a:pt x="24" y="144"/>
                  <a:pt x="8" y="48"/>
                  <a:pt x="0" y="0"/>
                </a:cubicBezTo>
              </a:path>
            </a:pathLst>
          </a:custGeom>
          <a:solidFill>
            <a:srgbClr val="800000"/>
          </a:solidFill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conven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r:  variables, layers, files, library items (graphics, components, movie clips, buttons, etc . . . )*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 spa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tart with lett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se “_” or capital letters to separate word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ome_butt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omeButt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lash is partially case sensitiv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20:32:52Z</dcterms:created>
  <dc:creator>aew2</dc:creator>
  <dc:description/>
  <dc:language>en-US</dc:language>
  <cp:lastModifiedBy>Andy Walker</cp:lastModifiedBy>
  <dcterms:modified xsi:type="dcterms:W3CDTF">2006-01-11T23:04:50Z</dcterms:modified>
  <cp:revision>293</cp:revision>
  <dc:subject/>
  <dc:title>Delphi Surveys:  An Alternative Approach to Needs Assessment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66617349</vt:r8>
  </property>
  <property fmtid="{D5CDD505-2E9C-101B-9397-08002B2CF9AE}" pid="3" name="_AuthorEmail">
    <vt:lpwstr>jennifer.m.brill@lehigh.edu</vt:lpwstr>
  </property>
  <property fmtid="{D5CDD505-2E9C-101B-9397-08002B2CF9AE}" pid="4" name="_AuthorEmailDisplayName">
    <vt:lpwstr>Jennifer M. Brill</vt:lpwstr>
  </property>
  <property fmtid="{D5CDD505-2E9C-101B-9397-08002B2CF9AE}" pid="5" name="_EmailSubject">
    <vt:lpwstr>ISPI Presentation FINAL</vt:lpwstr>
  </property>
  <property fmtid="{D5CDD505-2E9C-101B-9397-08002B2CF9AE}" pid="6" name="_PreviousAdHocReviewCycleID">
    <vt:r8>856869919</vt:r8>
  </property>
  <property fmtid="{D5CDD505-2E9C-101B-9397-08002B2CF9AE}" pid="7" name="_ReviewingToolsShownOnce">
    <vt:lpwstr/>
  </property>
</Properties>
</file>