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18B-EC20-4779-966F-D337220F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F61-4D6E-43F0-9772-F5595BA8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D64-C99B-44E6-B29A-45D18B60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82D-1FB8-42BB-831D-2AF8C43B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25A5-66DD-4941-8A11-4714F5FD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402B-D706-46F1-8DDE-3FDFAF20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CE31-BCB9-43F4-A32D-4CAF6708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65A8-08A2-4890-9204-1F3BDDA9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EA0C-9E4E-40AC-8557-85E32A03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92ED-FA19-48E2-8D89-A07D060A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017D-8AD4-4AD5-9D09-A9E13555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49A-9033-4424-965C-0851C8EF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5531-F2BF-43FB-8E15-727C3841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F28F-5D67-4FDC-BC29-67AA9BB5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F734-02A2-4DBC-B26D-7B5C74B0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B16D-9D3F-4D50-A7E4-E4D68ED1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9B5D-9224-4190-A842-49CD5388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8F7-B7EB-4928-BA02-B22D30C2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CB3-C3FA-4E0E-9A02-4BC629A4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620-2E2E-4D3C-BC8C-6B8FB6FF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FD4-706B-4775-9D25-2C2FB887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172-0860-4A2E-9A97-5CDA5F3B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578-213D-459C-9681-D8D328C7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EEC-01A5-4B81-9900-9CD9A29F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1828800" cy="18288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2c2c62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FDB1-26DE-46C4-B3E5-800709F2495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11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9040-A982-41D3-A944-9E3F0EEFBBF1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58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lug-in dete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treaming Sim (back to debug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eloa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ublishing/Optimiz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ug-in detection (the “sniffer” fi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at’s wrong with the auto-generated html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e an embedded flash file to re-direct the browser to your flash enabled pag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it is successful, they have the flash player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unsuccessful, then they do not have the flash player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ug-in detection (the “sniffer” fi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1828800"/>
            <a:ext cx="2057400" cy="990720"/>
          </a:xfrm>
          <a:prstGeom prst="rect">
            <a:avLst/>
          </a:prstGeom>
          <a:solidFill>
            <a:srgbClr val="eaeaea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index.htm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sniffer.swf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495680"/>
            <a:ext cx="2438280" cy="990720"/>
          </a:xfrm>
          <a:prstGeom prst="rect">
            <a:avLst/>
          </a:prstGeom>
          <a:solidFill>
            <a:srgbClr val="eaeaea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flash.htm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yourFlashFile.swf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4495680"/>
            <a:ext cx="2057400" cy="990720"/>
          </a:xfrm>
          <a:prstGeom prst="rect">
            <a:avLst/>
          </a:prstGeom>
          <a:solidFill>
            <a:srgbClr val="eaeaea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getFlash.htm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1" idx="2"/>
            <a:endCxn id="105" idx="0"/>
          </p:cNvCxnSpPr>
          <p:nvPr/>
        </p:nvCxnSpPr>
        <p:spPr>
          <a:xfrm flipH="1">
            <a:off x="4800240" y="2819520"/>
            <a:ext cx="38880" cy="1372320"/>
          </a:xfrm>
          <a:prstGeom prst="straightConnector1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5" idx="3"/>
            <a:endCxn id="103" idx="1"/>
          </p:cNvCxnSpPr>
          <p:nvPr/>
        </p:nvCxnSpPr>
        <p:spPr>
          <a:xfrm>
            <a:off x="5943240" y="4990680"/>
            <a:ext cx="610200" cy="1080"/>
          </a:xfrm>
          <a:prstGeom prst="straightConnector1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533520" y="3352680"/>
            <a:ext cx="245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sniffer.swf tries to take user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to flash.htm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89880" y="2133720"/>
            <a:ext cx="245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If it fails, the user is re-directed to getFlash.html, which has a link to download the plug-i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4191120"/>
            <a:ext cx="2286000" cy="1600200"/>
          </a:xfrm>
          <a:prstGeom prst="flowChartDecision">
            <a:avLst/>
          </a:prstGeom>
          <a:solidFill>
            <a:srgbClr val="b2b2b2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Has flash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5" idx="1"/>
            <a:endCxn id="102" idx="3"/>
          </p:cNvCxnSpPr>
          <p:nvPr/>
        </p:nvCxnSpPr>
        <p:spPr>
          <a:xfrm flipH="1">
            <a:off x="2971080" y="4990680"/>
            <a:ext cx="686520" cy="1080"/>
          </a:xfrm>
          <a:prstGeom prst="straightConnector1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3048120" y="45561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y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4572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n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bugging/Strea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mulated connection speed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ecking for spik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-loa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eck download statu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dication of activi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deally, a percentage complet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o-progress when finish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//checks to see if frame 15 is load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2c62"/>
                </a:solidFill>
                <a:latin typeface="Arial"/>
              </a:rPr>
              <a:t>ifFrameLoaded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15) {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0:32:52Z</dcterms:created>
  <dc:creator>aew2</dc:creator>
  <dc:description/>
  <dc:language>en-US</dc:language>
  <cp:lastModifiedBy>Andy Walker</cp:lastModifiedBy>
  <dcterms:modified xsi:type="dcterms:W3CDTF">2006-03-16T17:49:55Z</dcterms:modified>
  <cp:revision>393</cp:revision>
  <dc:subject/>
  <dc:title>Delphi Surveys:  An Alternative Approach to Needs Assessmen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66617349</vt:r8>
  </property>
  <property fmtid="{D5CDD505-2E9C-101B-9397-08002B2CF9AE}" pid="3" name="_AuthorEmail">
    <vt:lpwstr>jennifer.m.brill@lehigh.edu</vt:lpwstr>
  </property>
  <property fmtid="{D5CDD505-2E9C-101B-9397-08002B2CF9AE}" pid="4" name="_AuthorEmailDisplayName">
    <vt:lpwstr>Jennifer M. Brill</vt:lpwstr>
  </property>
  <property fmtid="{D5CDD505-2E9C-101B-9397-08002B2CF9AE}" pid="5" name="_EmailSubject">
    <vt:lpwstr>ISPI Presentation FINAL</vt:lpwstr>
  </property>
  <property fmtid="{D5CDD505-2E9C-101B-9397-08002B2CF9AE}" pid="6" name="_PreviousAdHocReviewCycleID">
    <vt:r8>856869919</vt:r8>
  </property>
  <property fmtid="{D5CDD505-2E9C-101B-9397-08002B2CF9AE}" pid="7" name="_ReviewingToolsShownOnce">
    <vt:lpwstr/>
  </property>
</Properties>
</file>