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F01-D9DD-44B9-87FB-C8B7E831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127-CE3C-40A6-8634-2E24DF3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DB7-D808-46AB-8B60-7BCA3381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684-7A7C-4429-B893-81000BD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EF29-7896-4882-8E19-3F328885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442-6524-468C-B0B8-2AAE792E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D3C3-E1BA-412C-830A-093B1B63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5254-B291-4D15-B385-95D422C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8389-56E0-4731-A11C-A3751C10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4136-B82C-410D-938B-91EE5C79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6B37-470D-476F-83EC-48D7822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EE8-F12A-4FD5-89FA-36E9CDE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D271-D3B5-43B2-86B9-94C72222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1E3-8665-4F53-A3DE-3D5C166F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6FD8-102E-41B2-A5D0-4C6684AA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1F6-D3CE-4EA5-84BE-AC242734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556C-3044-4CDF-906E-6B8C92B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92E-5959-4BA4-B79D-FA18075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6C5-B87E-4FF1-998D-FC83264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A5E-2785-41E0-A84F-2BF2A0DE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896-BA5A-468E-83A1-5A51331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312-BBDC-4E52-9B6B-2F02ADE8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E43-49CD-4A85-8539-F0BB7E2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8F6-7D14-4B0B-83C3-1E30012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CA6C-79BE-4C2D-B461-92DD5EBE010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37CC-4C2E-49C0-8FC6-FCA5D43B1D7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itma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mbol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ctionScrip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 that will help in assignment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nextFra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); // takes you to the next frame in the timelin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prevFra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); // takes you to the previous frame in the timeline.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gotoAndSto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1); // takes you to the first frame and stops the timeline. (can replace 1 with any number you want).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tmaps supported by Fl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BMP (bitmap)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PICT 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JPEG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GIF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PNG (Fireworks)*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PSD (Photoshop)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IF, TIFF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MOV (Quicktime)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GA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Silicon Graphics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MacPaint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Acrobat (PDF)*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75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Adobe Illustrator*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 scrip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text is key, Actionscript can be applied 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ames (timelin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bjects (instance leve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also be used to have objects talk to other objects (Button-&gt;Timeline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unctions as sche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ema = answering the pho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put location (home or offic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utput greeting (“Hi this is Andy”) or (“Hello”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lash Syntax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unctionName(functionInpu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honeGreeting(“at home”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otoAndStop(1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op(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524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listen for mouse events (rollover, click, release, etc . . . 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sual “states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n-visual referen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ctionScript is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par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c2c62"/>
                </a:solidFill>
                <a:latin typeface="Arial"/>
              </a:rPr>
              <a:t>gotoAndSto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2)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on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otoAndStop(2)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n(</a:t>
            </a: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 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otoAndStop(2)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n(release) </a:t>
            </a: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gotoAndStop(2);</a:t>
            </a: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8302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2-01T21:35:14Z</dcterms:modified>
  <cp:revision>322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