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80E-0DC3-4062-9624-31A6D8AA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4B6-1D86-43DB-B69B-412A303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396-F6D5-4E1B-A47F-5B021DFD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177-5393-4358-95BC-53324102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95E5-C54F-46E8-8A7E-3CB2E2F2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9212-3B98-4400-8ED8-84C136D8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EC99-B590-43B4-A6E7-A1E40E83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333B-A4EE-48C0-8A37-BC87A52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186-07F8-4895-897C-88CC5BCF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5143-C1C8-4063-B56E-9ED0027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0548-75FA-4B3D-A674-F6450BD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3DA-2488-4999-BAF3-470896B6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DA07-05CA-4FF5-81B1-0CB02B0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9B9A-15BD-40A6-9385-507E8FD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D5DF-A0BA-4323-A46E-21EEC16C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1C69-0ADC-4C5D-BE54-41BA6405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AA6B-DB05-445E-B766-FDFB77A3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7AB-1EF0-45BE-AA80-6B4C0E62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B50-910D-475F-93B1-574AE8A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0DB-6447-4E9C-A9AF-B6F472EE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79F-CE7C-4478-8727-8198980F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1FF-6C61-49C4-AB74-820897A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077-3FAF-4706-B0FC-5277C6E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1B5-CF4D-4016-89D3-92233C6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195B-0185-4BD4-913D-C0F3F5496A7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6E86-B29B-498D-B7DE-16FB7FED092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ovie Cli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ing actionScript to control “other” timelin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stance nam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_root., _parent. (object hierarchy and dot syntax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e cl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ber symb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dependent timelin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ini flash fi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r examp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Script and Movie Cl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stance nam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thing” to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instances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not symbols)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_root.&lt;instance name(s)&gt;.&lt;function or property&gt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for absolute pathing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example: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_roo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mushroom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op(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_parent.&lt;instance name(s)&gt;.&lt;function or property&gt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for relative pathing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example: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_parent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sky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otoAndStop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is.&lt;instance name(s)&gt;.&lt;function or property&gt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current location in heirarchy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example:  faceFrame =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face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_currentfram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is. is not necessary, already impli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Different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an symbol na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erarchy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48040" y="3249720"/>
            <a:ext cx="1714680" cy="9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58000" y="3276720"/>
            <a:ext cx="160164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1473120" cy="749520"/>
          </a:xfrm>
          <a:prstGeom prst="rect">
            <a:avLst/>
          </a:prstGeom>
          <a:ln w="0">
            <a:noFill/>
          </a:ln>
        </p:spPr>
      </p:pic>
      <p:cxnSp>
        <p:nvCxnSpPr>
          <p:cNvPr id="109" name=""/>
          <p:cNvCxnSpPr>
            <a:stCxn id="108" idx="2"/>
            <a:endCxn id="105" idx="0"/>
          </p:cNvCxnSpPr>
          <p:nvPr/>
        </p:nvCxnSpPr>
        <p:spPr>
          <a:xfrm rot="5400000">
            <a:off x="2761560" y="1339920"/>
            <a:ext cx="775440" cy="3099600"/>
          </a:xfrm>
          <a:prstGeom prst="bentConnector3">
            <a:avLst>
              <a:gd name="adj1" fmla="val 49976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2"/>
            <a:endCxn id="106" idx="0"/>
          </p:cNvCxnSpPr>
          <p:nvPr/>
        </p:nvCxnSpPr>
        <p:spPr>
          <a:xfrm flipH="1" rot="16200000">
            <a:off x="4327200" y="2872440"/>
            <a:ext cx="748440" cy="6840"/>
          </a:xfrm>
          <a:prstGeom prst="bentConnector3">
            <a:avLst>
              <a:gd name="adj1" fmla="val 49855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7" idx="0"/>
          </p:cNvCxnSpPr>
          <p:nvPr/>
        </p:nvCxnSpPr>
        <p:spPr>
          <a:xfrm flipH="1" rot="16200000">
            <a:off x="5792040" y="1408680"/>
            <a:ext cx="775440" cy="2961360"/>
          </a:xfrm>
          <a:prstGeom prst="bentConnector3">
            <a:avLst>
              <a:gd name="adj1" fmla="val 49976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089360" y="51055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Hierarchy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507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rom sky to mushroom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_paren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mushroo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rom mushroom to sky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_paren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sk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19920" y="2422440"/>
            <a:ext cx="1473120" cy="749520"/>
          </a:xfrm>
          <a:prstGeom prst="rect">
            <a:avLst/>
          </a:prstGeom>
          <a:ln w="0">
            <a:noFill/>
          </a:ln>
        </p:spPr>
      </p:pic>
      <p:cxnSp>
        <p:nvCxnSpPr>
          <p:cNvPr id="116" name=""/>
          <p:cNvCxnSpPr>
            <a:stCxn id="115" idx="2"/>
          </p:cNvCxnSpPr>
          <p:nvPr/>
        </p:nvCxnSpPr>
        <p:spPr>
          <a:xfrm rot="5400000">
            <a:off x="5484960" y="2751480"/>
            <a:ext cx="851400" cy="1691640"/>
          </a:xfrm>
          <a:prstGeom prst="bentConnector3">
            <a:avLst>
              <a:gd name="adj1" fmla="val 5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</p:cNvCxnSpPr>
          <p:nvPr/>
        </p:nvCxnSpPr>
        <p:spPr>
          <a:xfrm flipH="1" rot="16200000">
            <a:off x="6990120" y="2936520"/>
            <a:ext cx="851400" cy="1321200"/>
          </a:xfrm>
          <a:prstGeom prst="bentConnector3">
            <a:avLst>
              <a:gd name="adj1" fmla="val 5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419720" y="554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k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9880" y="4022640"/>
          <a:ext cx="2509920" cy="15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022640"/>
                    <a:ext cx="25099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010280" y="4022640"/>
          <a:ext cx="2133720" cy="1617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022640"/>
                    <a:ext cx="213372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390800" y="562284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ushro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2-16T20:06:48Z</dcterms:modified>
  <cp:revision>340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