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56D-8A4F-446E-AF2A-1C8C0015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C31-46EB-42FA-BC6F-76ED532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608-A68E-40C3-BCF3-5CB06D5F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D11-C18E-440F-ABF9-2178327A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400D-115B-4A69-939D-FEBF481D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B601-11B5-46A2-89B4-80E9D93B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7D8-C6A0-42B3-89F3-24F38F64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29B0-EC36-4CE2-A1FF-B7D28413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0A23-E3F2-4B5D-9EB7-DDA08476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18D8-C0FE-4EA9-A0AA-3B57901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570-623E-4CDC-961E-47E2A8F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B12-950F-408A-BB98-090BF792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D244-EB7B-4FF8-B873-12C9152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597F-F17E-4220-9A35-A9709AF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CA4C-C535-4EB6-B1D0-860CD0E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1D5F-7C0B-4304-A65B-A84D8333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31A-B301-4E87-BF6F-484608BC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124-8C10-41F9-B870-27D70CD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CB8-8D61-404A-8615-4A59D4E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039-3D8D-4DED-8F3E-AF9E2872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CBC-63B0-4FCF-9F42-98DE6805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67B-EE4B-41D4-9183-4365C18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AB4-0138-4429-932C-510D8E9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DB3-9C8B-4D13-A91E-E3D58C0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645-8BFC-40A4-9DF3-3161E6AB73D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87C-3CF1-4E05-9D38-2674C7FB8DB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king flash on the road (portable development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earing up for final projec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dds and En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bile develop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w player (Flash Lite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pdate for Flash 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aring up for final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ganizing the timeli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nimize instan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eep related layers near each oth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llaborating or “parsing out” wor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gle frame mo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tVolume() fun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gistration point of draggab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n do frame actions get run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4-03T14:52:34Z</dcterms:modified>
  <cp:revision>415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