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E60F-3D7A-4F0A-9DE2-AF3076BA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48D9-3F99-48CA-9197-34E97E6D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3035-9C85-4D30-A37F-726E0EA2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805-41CB-42CE-A79F-BFEF9859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87DE-B644-4107-8D7A-DE0C27CD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AFEE-85D1-4A48-917F-3BF5852B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54A6-37E6-41C3-BC20-65A3AFA2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433C-C3DC-44F7-8058-4A4CD2D8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921F-27DC-4FCD-BE28-512BA4C3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AEAC-EB4C-472D-AD2D-AE615595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90D7-4E57-4989-97ED-0C404A8B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4D8F-413C-42E2-AFAB-53CCC370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4D49-60DF-4F80-AB16-797EB1E1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DDF9-2E5F-4E93-928A-89EB86DA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8310-E0AB-4AF0-B2D8-ABF9000B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B6E3-2575-4363-A757-C5309B56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8D36-94B0-476A-A416-E2C30BD6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7B49-0B3A-4C32-908B-291ADDFE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4E8F-71C8-4A0F-9A5B-EC4E5B42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1984-CD88-4C70-9A80-7E51CA32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78DB-774F-434B-B9AC-34D09C70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13E0-D55E-47BC-98D1-0A8034DB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6D07-26E2-4B06-B40B-D87E07F9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2496-5587-4A1D-929B-A7FC7985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1828800" cy="1828800"/>
          </a:xfrm>
          <a:prstGeom prst="ellipse">
            <a:avLst/>
          </a:prstGeom>
          <a:noFill/>
          <a:ln w="1260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a5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a5d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2c2c62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452C-44BA-4D4A-B4F2-7C8DF024145F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6477120"/>
            <a:ext cx="9154440" cy="398880"/>
            <a:chOff x="0" y="6477120"/>
            <a:chExt cx="9154440" cy="398880"/>
          </a:xfrm>
        </p:grpSpPr>
        <p:sp>
          <p:nvSpPr>
            <p:cNvPr id="11" name=""/>
            <p:cNvSpPr/>
            <p:nvPr/>
          </p:nvSpPr>
          <p:spPr>
            <a:xfrm>
              <a:off x="0" y="6568920"/>
              <a:ext cx="9144000" cy="228240"/>
            </a:xfrm>
            <a:prstGeom prst="rect">
              <a:avLst/>
            </a:prstGeom>
            <a:solidFill>
              <a:srgbClr val="2c2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772760" y="6477120"/>
              <a:ext cx="138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Utah State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55DB-FC07-4E08-9358-6367A53A6DAF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914400"/>
            <a:ext cx="2514600" cy="2514600"/>
          </a:xfrm>
          <a:prstGeom prst="ellipse">
            <a:avLst/>
          </a:prstGeom>
          <a:noFill/>
          <a:ln w="1260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676520"/>
            <a:ext cx="4724280" cy="1143000"/>
          </a:xfrm>
          <a:prstGeom prst="rect">
            <a:avLst/>
          </a:prstGeom>
          <a:solidFill>
            <a:srgbClr val="a5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1676520"/>
            <a:ext cx="472428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a5d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228600" cy="14493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6477120"/>
            <a:ext cx="9154440" cy="398880"/>
            <a:chOff x="0" y="6477120"/>
            <a:chExt cx="9154440" cy="398880"/>
          </a:xfrm>
        </p:grpSpPr>
        <p:sp>
          <p:nvSpPr>
            <p:cNvPr id="58" name=""/>
            <p:cNvSpPr/>
            <p:nvPr/>
          </p:nvSpPr>
          <p:spPr>
            <a:xfrm>
              <a:off x="0" y="6568920"/>
              <a:ext cx="9144000" cy="228240"/>
            </a:xfrm>
            <a:prstGeom prst="rect">
              <a:avLst/>
            </a:prstGeom>
            <a:solidFill>
              <a:srgbClr val="2c2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72760" y="6477120"/>
              <a:ext cx="138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Utah State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tem wr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ultiple choi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ultiple Select (reduced set matching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mbedded item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ching:  parts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3032280"/>
            <a:ext cx="3429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 1. First president of the      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 2. Discoverer of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 3. Year America wa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 4. Beginning of the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lutionary W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 5. Present capital of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ited Stat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59920" y="3032280"/>
            <a:ext cx="3512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 Columbu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 George Washingt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 Washington, D.C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 149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 1776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33280" y="1600200"/>
            <a:ext cx="7477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In column A are statements about our history, in column B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Names places and dates, match the letter of the appropriate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Name, place, or date with the appropriate line next to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column 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600200"/>
            <a:ext cx="7543800" cy="1371600"/>
          </a:xfrm>
          <a:prstGeom prst="rect">
            <a:avLst/>
          </a:prstGeom>
          <a:solidFill>
            <a:srgbClr val="a5a5d7">
              <a:alpha val="20000"/>
            </a:srgbClr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3048120"/>
            <a:ext cx="3581640" cy="3200400"/>
          </a:xfrm>
          <a:prstGeom prst="rect">
            <a:avLst/>
          </a:prstGeom>
          <a:solidFill>
            <a:srgbClr val="a5a5d7">
              <a:alpha val="20000"/>
            </a:srgbClr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3048120"/>
            <a:ext cx="2971800" cy="1981080"/>
          </a:xfrm>
          <a:prstGeom prst="rect">
            <a:avLst/>
          </a:prstGeom>
          <a:solidFill>
            <a:srgbClr val="a5a5d7">
              <a:alpha val="20000"/>
            </a:srgbClr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goo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fficient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Variety of learning targe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bad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omotes rote memoriz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ost difficult to wri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ching 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62"/>
                </a:solidFill>
                <a:latin typeface="Arial"/>
              </a:rPr>
              <a:t>Match with learning targets/objectiv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62"/>
                </a:solidFill>
                <a:latin typeface="Arial"/>
              </a:rPr>
              <a:t>Match assessment pla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omogenous sets of premises/respons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lear direction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very response is a plausible option for every premi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5-10 rul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No perfect matching (# responses &gt; # premises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ach premise longer than each respon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ogically arranged respons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Numbered premises/lettered respons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ching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3032280"/>
            <a:ext cx="3444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 1. First president of the      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 2. Discoverer of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 3. Year America wa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 4. Beginning of the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lutionary W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 5. Present capital of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ited Stat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59920" y="3032280"/>
            <a:ext cx="3512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 Columbu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 George Washingt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 Washington, D.C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 149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 1776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33280" y="1600200"/>
            <a:ext cx="7477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In column A are statements about our history, in column B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Names places and dates, match the letter of the appropriate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Name, place, or date with the appropriate line next to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column 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i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Goal is to check understand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iming (formative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Do not grad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llow for multiple attemp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eedback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rrect response (prompt to continue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cursive corrective feedback (try again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valid response (re-prompt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e did not co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ssessment blueprints and assessment pla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Validity/reliability of item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tent validit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tra-item reliabilit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tem analysi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ther item types:  Short answer, essay, project-based.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choice:  parts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ho is the most constructivist professor in the INST department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2c2c62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drew Walk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2c2c62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rett Shelt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2c2c62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avid Wile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2c2c62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epak Subramony*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2c2c62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imi Reck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2c2c62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heri Haderli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971800"/>
            <a:ext cx="4419720" cy="2895480"/>
          </a:xfrm>
          <a:prstGeom prst="rect">
            <a:avLst/>
          </a:prstGeom>
          <a:solidFill>
            <a:srgbClr val="a5a5d7">
              <a:alpha val="20000"/>
            </a:srgbClr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981080"/>
            <a:ext cx="7620120" cy="990720"/>
          </a:xfrm>
          <a:prstGeom prst="rect">
            <a:avLst/>
          </a:prstGeom>
          <a:solidFill>
            <a:srgbClr val="a5a5d7">
              <a:alpha val="20000"/>
            </a:srgbClr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4343400"/>
            <a:ext cx="3962520" cy="457200"/>
          </a:xfrm>
          <a:prstGeom prst="rect">
            <a:avLst/>
          </a:prstGeom>
          <a:solidFill>
            <a:srgbClr val="424294">
              <a:alpha val="20000"/>
            </a:srgbClr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295280" y="2971800"/>
            <a:ext cx="3962520" cy="2895480"/>
            <a:chOff x="1295280" y="2971800"/>
            <a:chExt cx="3962520" cy="2895480"/>
          </a:xfrm>
        </p:grpSpPr>
        <p:sp>
          <p:nvSpPr>
            <p:cNvPr id="104" name=""/>
            <p:cNvSpPr/>
            <p:nvPr/>
          </p:nvSpPr>
          <p:spPr>
            <a:xfrm>
              <a:off x="1295280" y="2971800"/>
              <a:ext cx="3962520" cy="1371600"/>
            </a:xfrm>
            <a:prstGeom prst="rect">
              <a:avLst/>
            </a:prstGeom>
            <a:solidFill>
              <a:srgbClr val="424294">
                <a:alpha val="20000"/>
              </a:srgbClr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95280" y="4800600"/>
              <a:ext cx="3962520" cy="1066680"/>
            </a:xfrm>
            <a:prstGeom prst="rect">
              <a:avLst/>
            </a:prstGeom>
            <a:solidFill>
              <a:srgbClr val="424294">
                <a:alpha val="20000"/>
              </a:srgbClr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cho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goo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Variety of learning targe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inimize the BS respons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oes not assess writing abiliti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Guessing is more difficul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iagnostic abiliti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What’s missing from this list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Cho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bad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ittle self-express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imited to trivia or factual knowledge*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unishes bright studen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anonized knowledg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rces drill-and-practi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choice Recommendations (ste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62"/>
                </a:solidFill>
                <a:latin typeface="Arial"/>
              </a:rPr>
              <a:t>Write as direct question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(Haladyna &amp; Downing, 1989a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void incomplete sentenc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Keep it simple (non-technical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r definitions, place term in ste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rop the window dress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o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use negativ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void examinee opin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62"/>
                </a:solidFill>
                <a:latin typeface="Arial"/>
              </a:rPr>
              <a:t>Paraphrased (not from the textbook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Separate item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choice Recommendations (leav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3-5 ru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Homogeniz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lace repeated words/phrases in ste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sistent punctuation &amp; grammar w/ ste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rrange in a list that is logical or meaningfu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istinct leaf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void true/false leaf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void “none of the above/all of the above”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Overly plausible distracto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choice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Which of the following three-dimensional shapes is best suited to traversing a smooth surface in a linear fashion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c2c62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ub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c2c62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yrami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c2c62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ul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c2c62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oi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c2c62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ylinder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choice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f you want students to perform a calculation in a test the best thing to use is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c2c62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fixed-response item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c2c62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multiple choice item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c2c62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matching item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2c2c62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fill-in-the blank item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choice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 your opinion, who is the most constructivist professor in the INST department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c2c62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ndrew Walk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c2c62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rett Shelt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c2c62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avid Wile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c2c62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eepak Subramony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c2c62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imi Reck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c2c62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heri Haderli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20:32:52Z</dcterms:created>
  <dc:creator>aew2</dc:creator>
  <dc:description/>
  <dc:language>en-US</dc:language>
  <cp:lastModifiedBy>Andy Walker</cp:lastModifiedBy>
  <dcterms:modified xsi:type="dcterms:W3CDTF">2006-03-13T18:59:21Z</dcterms:modified>
  <cp:revision>365</cp:revision>
  <dc:subject/>
  <dc:title>Delphi Surveys:  An Alternative Approach to Needs Assessment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66617349</vt:r8>
  </property>
  <property fmtid="{D5CDD505-2E9C-101B-9397-08002B2CF9AE}" pid="3" name="_AuthorEmail">
    <vt:lpwstr>jennifer.m.brill@lehigh.edu</vt:lpwstr>
  </property>
  <property fmtid="{D5CDD505-2E9C-101B-9397-08002B2CF9AE}" pid="4" name="_AuthorEmailDisplayName">
    <vt:lpwstr>Jennifer M. Brill</vt:lpwstr>
  </property>
  <property fmtid="{D5CDD505-2E9C-101B-9397-08002B2CF9AE}" pid="5" name="_EmailSubject">
    <vt:lpwstr>ISPI Presentation FINAL</vt:lpwstr>
  </property>
  <property fmtid="{D5CDD505-2E9C-101B-9397-08002B2CF9AE}" pid="6" name="_PreviousAdHocReviewCycleID">
    <vt:r8>856869919</vt:r8>
  </property>
  <property fmtid="{D5CDD505-2E9C-101B-9397-08002B2CF9AE}" pid="7" name="_ReviewingToolsShownOnce">
    <vt:lpwstr/>
  </property>
</Properties>
</file>