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0C9E8-C4FC-4EAD-AE7A-B82130441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02189-F3C4-4D1C-B3B2-0CEAD91C7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BAB8A-C304-47E6-B763-6D8C5D133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3870C-8FE5-405C-8B74-8879753EF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CF6DA-3F5F-4D7A-8185-41952A1B0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2EAEB-F503-4BD8-983C-7F89E6EFB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2DC88-8F0E-46F3-8DBE-98372A123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F78E3-E460-4CA6-9DCF-81FF5DC39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ADC10-5C5B-4012-8891-6B972CB33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914040" y="-36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0CE62-40A0-4F51-AFD6-62DCE5003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247C5-2424-4B65-B118-9A17FA243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BA088-6044-4659-A246-4414C73F8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83CAE-AA84-4907-A8EA-319F883F9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63C21-A0B5-4F35-9D5A-2772DE3E5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449F9-A361-41DF-BA30-F54495190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B162E-585C-4043-95AA-AAC32EB90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CEDE2-8998-45C1-8585-C56062E78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DD34C-11F5-4F85-8702-E39956C46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3A885-EDEE-4624-9DA5-F486158D2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C69CE-574E-432A-9ABC-659D50CEC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914040" y="-36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1DCE1-7DAD-4927-AA2E-4F570ECC0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F30A0-C1FF-492D-A17F-C6543E7E3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CE73E-6A76-4829-A222-FF46BC397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C0FE9-9F51-477F-BEE1-53395572A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1828800" cy="1828800"/>
          </a:xfrm>
          <a:prstGeom prst="ellipse">
            <a:avLst/>
          </a:prstGeom>
          <a:noFill/>
          <a:ln w="12600">
            <a:solidFill>
              <a:srgbClr val="2c2c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a5a5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5a5d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2c2c62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2c2c62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2c2c62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2c2c62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2c2c62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517D5-198F-4ED5-9307-B447DD955B17}" type="slidenum">
              <a:rPr b="0" lang="en-US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838080" y="561960"/>
            <a:ext cx="152640" cy="10666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2c2c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grpSp>
        <p:nvGrpSpPr>
          <p:cNvPr id="10" name=""/>
          <p:cNvGrpSpPr/>
          <p:nvPr/>
        </p:nvGrpSpPr>
        <p:grpSpPr>
          <a:xfrm>
            <a:off x="0" y="6477120"/>
            <a:ext cx="9154440" cy="398880"/>
            <a:chOff x="0" y="6477120"/>
            <a:chExt cx="9154440" cy="398880"/>
          </a:xfrm>
        </p:grpSpPr>
        <p:sp>
          <p:nvSpPr>
            <p:cNvPr id="11" name=""/>
            <p:cNvSpPr/>
            <p:nvPr/>
          </p:nvSpPr>
          <p:spPr>
            <a:xfrm>
              <a:off x="0" y="6568920"/>
              <a:ext cx="9144000" cy="228240"/>
            </a:xfrm>
            <a:prstGeom prst="rect">
              <a:avLst/>
            </a:prstGeom>
            <a:solidFill>
              <a:srgbClr val="2c2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772760" y="6477120"/>
              <a:ext cx="138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Utah State</a:t>
              </a:r>
              <a:endParaRPr b="0" lang="en-US" sz="20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6A6D6-7237-42BB-84C0-B29BAC1CF566}" type="slidenum">
              <a:rPr b="0" lang="en-US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914400"/>
            <a:ext cx="2514600" cy="2514600"/>
          </a:xfrm>
          <a:prstGeom prst="ellipse">
            <a:avLst/>
          </a:prstGeom>
          <a:noFill/>
          <a:ln w="12600">
            <a:solidFill>
              <a:srgbClr val="2c2c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1676520"/>
            <a:ext cx="4724280" cy="1143000"/>
          </a:xfrm>
          <a:prstGeom prst="rect">
            <a:avLst/>
          </a:prstGeom>
          <a:solidFill>
            <a:srgbClr val="a5a5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62520" y="1676520"/>
            <a:ext cx="4724280" cy="114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5a5d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1523880"/>
            <a:ext cx="228600" cy="14493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2c2c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0" y="6477120"/>
            <a:ext cx="9154440" cy="398880"/>
            <a:chOff x="0" y="6477120"/>
            <a:chExt cx="9154440" cy="398880"/>
          </a:xfrm>
        </p:grpSpPr>
        <p:sp>
          <p:nvSpPr>
            <p:cNvPr id="58" name=""/>
            <p:cNvSpPr/>
            <p:nvPr/>
          </p:nvSpPr>
          <p:spPr>
            <a:xfrm>
              <a:off x="0" y="6568920"/>
              <a:ext cx="9144000" cy="228240"/>
            </a:xfrm>
            <a:prstGeom prst="rect">
              <a:avLst/>
            </a:prstGeom>
            <a:solidFill>
              <a:srgbClr val="2c2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772760" y="6477120"/>
              <a:ext cx="138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Utah State</a:t>
              </a:r>
              <a:endParaRPr b="0" lang="en-US" sz="20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acromedia.com/devnet/mx/flashcom/articles/odopod.html" TargetMode="External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opic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2c2c62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ound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2c2c62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Timeline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2c2c62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ActionScript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2c2c62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ound Design for Instruction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2c2c62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Video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ide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040" y="15238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98520" indent="-398520">
              <a:lnSpc>
                <a:spcPct val="90000"/>
              </a:lnSpc>
              <a:spcBef>
                <a:spcPts val="799"/>
              </a:spcBef>
              <a:buClr>
                <a:srgbClr val="2c2c62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orenson compression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398520" indent="-398520">
              <a:lnSpc>
                <a:spcPct val="90000"/>
              </a:lnSpc>
              <a:spcBef>
                <a:spcPts val="799"/>
              </a:spcBef>
              <a:buClr>
                <a:srgbClr val="2c2c62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Live stream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398520" indent="-398520">
              <a:lnSpc>
                <a:spcPct val="90000"/>
              </a:lnSpc>
              <a:spcBef>
                <a:spcPts val="799"/>
              </a:spcBef>
              <a:buClr>
                <a:srgbClr val="2c2c62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lash Communication Server MX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790920" indent="-390960">
              <a:lnSpc>
                <a:spcPct val="90000"/>
              </a:lnSpc>
              <a:spcBef>
                <a:spcPts val="700"/>
              </a:spcBef>
              <a:buClr>
                <a:srgbClr val="2c2c62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9933"/>
                </a:solidFill>
                <a:uFillTx/>
                <a:latin typeface="Arial"/>
                <a:hlinkClick r:id="rId1"/>
              </a:rPr>
              <a:t>http://www.macromedia.com/devnet/mx/flashcom/articles/odopod.htm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398520" indent="-398520">
              <a:lnSpc>
                <a:spcPct val="90000"/>
              </a:lnSpc>
              <a:spcBef>
                <a:spcPts val="799"/>
              </a:spcBef>
              <a:buClr>
                <a:srgbClr val="2c2c62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.FLV (external/preferred internal)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398520" indent="-398520">
              <a:lnSpc>
                <a:spcPct val="90000"/>
              </a:lnSpc>
              <a:spcBef>
                <a:spcPts val="799"/>
              </a:spcBef>
              <a:buClr>
                <a:srgbClr val="2c2c62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actors that affect video size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790920" indent="-390960">
              <a:lnSpc>
                <a:spcPct val="90000"/>
              </a:lnSpc>
              <a:spcBef>
                <a:spcPts val="700"/>
              </a:spcBef>
              <a:buClr>
                <a:srgbClr val="2c2c62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Frames per second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790920" indent="-390960">
              <a:lnSpc>
                <a:spcPct val="90000"/>
              </a:lnSpc>
              <a:spcBef>
                <a:spcPts val="700"/>
              </a:spcBef>
              <a:buClr>
                <a:srgbClr val="2c2c62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Picture quality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790920" indent="-390960">
              <a:lnSpc>
                <a:spcPct val="90000"/>
              </a:lnSpc>
              <a:spcBef>
                <a:spcPts val="700"/>
              </a:spcBef>
              <a:buClr>
                <a:srgbClr val="2c2c62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Dimensions (height/width)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790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ideo compres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2c2c62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wo choices internal to flash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2c2c62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Need relevant codecs in order to compress. 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3886200" y="3276720"/>
            <a:ext cx="42670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und design (Bishop &amp; Cates, 2001)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2c2c62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Music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700"/>
              </a:spcBef>
              <a:buClr>
                <a:srgbClr val="2c2c62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et mood/control pacing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700"/>
              </a:spcBef>
              <a:buClr>
                <a:srgbClr val="2c2c62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Keep short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2c2c62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Narration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700"/>
              </a:spcBef>
              <a:buClr>
                <a:srgbClr val="2c2c62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Text &lt;= narration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2c2c62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Environmental sounds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700"/>
              </a:spcBef>
              <a:buClr>
                <a:srgbClr val="2c2c62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Inverse length relationship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700"/>
              </a:spcBef>
              <a:buClr>
                <a:srgbClr val="2c2c62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First person (immersion)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und design (cont.)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2c2c62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Referential sound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2c2c62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Metaphor reinforcement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2c2c62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Feedback/consistency (audio syntax)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2c2c62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Learner contro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2c2c62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On/off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2c2c62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Replay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und formats supported by Flash M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949320" y="1981080"/>
          <a:ext cx="7660800" cy="3600360"/>
        </p:xfrm>
        <a:graphic>
          <a:graphicData uri="http://schemas.openxmlformats.org/drawingml/2006/table">
            <a:tbl>
              <a:tblPr/>
              <a:tblGrid>
                <a:gridCol w="5589000"/>
                <a:gridCol w="957960"/>
                <a:gridCol w="1113840"/>
              </a:tblGrid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Type</a:t>
                      </a:r>
                      <a:endParaRPr b="0" lang="en-US" sz="23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1368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PC</a:t>
                      </a:r>
                      <a:endParaRPr b="0" lang="en-US" sz="23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1368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Mac</a:t>
                      </a:r>
                      <a:endParaRPr b="0" lang="en-US" sz="23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1368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.mp3</a:t>
                      </a:r>
                      <a:endParaRPr b="0" lang="en-US" sz="23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x</a:t>
                      </a:r>
                      <a:endParaRPr b="0" lang="en-US" sz="23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x</a:t>
                      </a:r>
                      <a:endParaRPr b="0" lang="en-US" sz="23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.wav*</a:t>
                      </a:r>
                      <a:endParaRPr b="0" lang="en-US" sz="23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x</a:t>
                      </a:r>
                      <a:endParaRPr b="0" lang="en-US" sz="23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x</a:t>
                      </a:r>
                      <a:endParaRPr b="0" lang="en-US" sz="23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.aiff*</a:t>
                      </a:r>
                      <a:endParaRPr b="0" lang="en-US" sz="23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x</a:t>
                      </a:r>
                      <a:endParaRPr b="0" lang="en-US" sz="23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x</a:t>
                      </a:r>
                      <a:endParaRPr b="0" lang="en-US" sz="23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.au</a:t>
                      </a:r>
                      <a:endParaRPr b="0" lang="en-US" sz="23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x</a:t>
                      </a:r>
                      <a:endParaRPr b="0" lang="en-US" sz="23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x</a:t>
                      </a:r>
                      <a:endParaRPr b="0" lang="en-US" sz="23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.midi</a:t>
                      </a:r>
                      <a:endParaRPr b="0" lang="en-US" sz="23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.qta or .mov (quicktime)</a:t>
                      </a:r>
                      <a:endParaRPr b="0" lang="en-US" sz="23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1368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x</a:t>
                      </a:r>
                      <a:endParaRPr b="0" lang="en-US" sz="23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1368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x</a:t>
                      </a:r>
                      <a:endParaRPr b="0" lang="en-US" sz="23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13680">
                      <a:solidFill>
                        <a:srgbClr val="29292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mpacts on file siz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812960" y="3276720"/>
            <a:ext cx="5349960" cy="2305080"/>
          </a:xfrm>
          <a:prstGeom prst="rect">
            <a:avLst/>
          </a:prstGeom>
          <a:ln w="25560">
            <a:solidFill>
              <a:srgbClr val="292929"/>
            </a:solidFill>
            <a:miter/>
          </a:ln>
        </p:spPr>
      </p:pic>
      <p:sp>
        <p:nvSpPr>
          <p:cNvPr id="106" name=""/>
          <p:cNvSpPr/>
          <p:nvPr/>
        </p:nvSpPr>
        <p:spPr>
          <a:xfrm>
            <a:off x="2344320" y="2666880"/>
            <a:ext cx="233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Verdana"/>
              </a:rPr>
              <a:t>Sample Rate (kHz)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rot="16200000">
            <a:off x="214920" y="4115520"/>
            <a:ext cx="225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Verdana"/>
              </a:rPr>
              <a:t>Sample Size (bits)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1828800" y="3276720"/>
            <a:ext cx="5334120" cy="2286000"/>
            <a:chOff x="1828800" y="3276720"/>
            <a:chExt cx="5334120" cy="2286000"/>
          </a:xfrm>
        </p:grpSpPr>
        <p:sp>
          <p:nvSpPr>
            <p:cNvPr id="109" name=""/>
            <p:cNvSpPr/>
            <p:nvPr/>
          </p:nvSpPr>
          <p:spPr>
            <a:xfrm>
              <a:off x="1828800" y="3505320"/>
              <a:ext cx="5334120" cy="0"/>
            </a:xfrm>
            <a:prstGeom prst="line">
              <a:avLst/>
            </a:prstGeom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828800" y="3733920"/>
              <a:ext cx="5334120" cy="0"/>
            </a:xfrm>
            <a:prstGeom prst="line">
              <a:avLst/>
            </a:prstGeom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828800" y="3962520"/>
              <a:ext cx="5334120" cy="0"/>
            </a:xfrm>
            <a:prstGeom prst="line">
              <a:avLst/>
            </a:prstGeom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828800" y="4191120"/>
              <a:ext cx="5334120" cy="0"/>
            </a:xfrm>
            <a:prstGeom prst="line">
              <a:avLst/>
            </a:prstGeom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828800" y="4419720"/>
              <a:ext cx="5334120" cy="0"/>
            </a:xfrm>
            <a:prstGeom prst="line">
              <a:avLst/>
            </a:prstGeom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828800" y="4648320"/>
              <a:ext cx="5334120" cy="0"/>
            </a:xfrm>
            <a:prstGeom prst="line">
              <a:avLst/>
            </a:prstGeom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828800" y="4876920"/>
              <a:ext cx="5334120" cy="0"/>
            </a:xfrm>
            <a:prstGeom prst="line">
              <a:avLst/>
            </a:prstGeom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828800" y="5105520"/>
              <a:ext cx="5334120" cy="0"/>
            </a:xfrm>
            <a:prstGeom prst="line">
              <a:avLst/>
            </a:prstGeom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828800" y="5334120"/>
              <a:ext cx="5334120" cy="0"/>
            </a:xfrm>
            <a:prstGeom prst="line">
              <a:avLst/>
            </a:prstGeom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057400" y="3276720"/>
              <a:ext cx="0" cy="2286000"/>
            </a:xfrm>
            <a:prstGeom prst="line">
              <a:avLst/>
            </a:prstGeom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286000" y="3276720"/>
              <a:ext cx="0" cy="2286000"/>
            </a:xfrm>
            <a:prstGeom prst="line">
              <a:avLst/>
            </a:prstGeom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514600" y="3276720"/>
              <a:ext cx="0" cy="2286000"/>
            </a:xfrm>
            <a:prstGeom prst="line">
              <a:avLst/>
            </a:prstGeom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743200" y="3276720"/>
              <a:ext cx="0" cy="2286000"/>
            </a:xfrm>
            <a:prstGeom prst="line">
              <a:avLst/>
            </a:prstGeom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971800" y="3276720"/>
              <a:ext cx="0" cy="2286000"/>
            </a:xfrm>
            <a:prstGeom prst="line">
              <a:avLst/>
            </a:prstGeom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200400" y="3276720"/>
              <a:ext cx="0" cy="2286000"/>
            </a:xfrm>
            <a:prstGeom prst="line">
              <a:avLst/>
            </a:prstGeom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429000" y="3276720"/>
              <a:ext cx="0" cy="2286000"/>
            </a:xfrm>
            <a:prstGeom prst="line">
              <a:avLst/>
            </a:prstGeom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657600" y="3276720"/>
              <a:ext cx="0" cy="2286000"/>
            </a:xfrm>
            <a:prstGeom prst="line">
              <a:avLst/>
            </a:prstGeom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886200" y="3276720"/>
              <a:ext cx="0" cy="2286000"/>
            </a:xfrm>
            <a:prstGeom prst="line">
              <a:avLst/>
            </a:prstGeom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114800" y="3276720"/>
              <a:ext cx="0" cy="2286000"/>
            </a:xfrm>
            <a:prstGeom prst="line">
              <a:avLst/>
            </a:prstGeom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343400" y="3276720"/>
              <a:ext cx="0" cy="2286000"/>
            </a:xfrm>
            <a:prstGeom prst="line">
              <a:avLst/>
            </a:prstGeom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572000" y="3276720"/>
              <a:ext cx="0" cy="2286000"/>
            </a:xfrm>
            <a:prstGeom prst="line">
              <a:avLst/>
            </a:prstGeom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800600" y="3276720"/>
              <a:ext cx="0" cy="2286000"/>
            </a:xfrm>
            <a:prstGeom prst="line">
              <a:avLst/>
            </a:prstGeom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029200" y="3276720"/>
              <a:ext cx="0" cy="2286000"/>
            </a:xfrm>
            <a:prstGeom prst="line">
              <a:avLst/>
            </a:prstGeom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257800" y="3276720"/>
              <a:ext cx="0" cy="2286000"/>
            </a:xfrm>
            <a:prstGeom prst="line">
              <a:avLst/>
            </a:prstGeom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486400" y="3276720"/>
              <a:ext cx="0" cy="2286000"/>
            </a:xfrm>
            <a:prstGeom prst="line">
              <a:avLst/>
            </a:prstGeom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15000" y="3276720"/>
              <a:ext cx="0" cy="2286000"/>
            </a:xfrm>
            <a:prstGeom prst="line">
              <a:avLst/>
            </a:prstGeom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943600" y="3276720"/>
              <a:ext cx="0" cy="2286000"/>
            </a:xfrm>
            <a:prstGeom prst="line">
              <a:avLst/>
            </a:prstGeom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172200" y="3276720"/>
              <a:ext cx="0" cy="2286000"/>
            </a:xfrm>
            <a:prstGeom prst="line">
              <a:avLst/>
            </a:prstGeom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400800" y="3276720"/>
              <a:ext cx="0" cy="2286000"/>
            </a:xfrm>
            <a:prstGeom prst="line">
              <a:avLst/>
            </a:prstGeom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629400" y="3276720"/>
              <a:ext cx="0" cy="2286000"/>
            </a:xfrm>
            <a:prstGeom prst="line">
              <a:avLst/>
            </a:prstGeom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858000" y="3276720"/>
              <a:ext cx="0" cy="2286000"/>
            </a:xfrm>
            <a:prstGeom prst="line">
              <a:avLst/>
            </a:prstGeom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086600" y="3276720"/>
              <a:ext cx="0" cy="2286000"/>
            </a:xfrm>
            <a:prstGeom prst="line">
              <a:avLst/>
            </a:prstGeom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und compression in Flash M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914400" y="1905120"/>
          <a:ext cx="7545240" cy="4173480"/>
        </p:xfrm>
        <a:graphic>
          <a:graphicData uri="http://schemas.openxmlformats.org/drawingml/2006/table">
            <a:tbl>
              <a:tblPr/>
              <a:tblGrid>
                <a:gridCol w="3430440"/>
                <a:gridCol w="4114800"/>
              </a:tblGrid>
              <a:tr h="64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Compression</a:t>
                      </a:r>
                      <a:endParaRPr b="0" lang="en-US" sz="23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1368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Use</a:t>
                      </a:r>
                      <a:endParaRPr b="0" lang="en-US" sz="23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1368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114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ADPCM</a:t>
                      </a:r>
                      <a:endParaRPr b="0" lang="en-US" sz="23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Good for short sound effects (correct/incorrect response, button clicks, etc . . . )</a:t>
                      </a:r>
                      <a:endParaRPr b="0" lang="en-US" sz="23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79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MP3 </a:t>
                      </a:r>
                      <a:endParaRPr b="0" lang="en-US" sz="23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Ideal for music, best general purpose choice</a:t>
                      </a:r>
                      <a:endParaRPr b="0" lang="en-US" sz="23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79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Speech</a:t>
                      </a:r>
                      <a:endParaRPr b="0" lang="en-US" sz="23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New to Flash MX, great for voice only</a:t>
                      </a:r>
                      <a:endParaRPr b="0" lang="en-US" sz="23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79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RAW</a:t>
                      </a:r>
                      <a:endParaRPr b="0" lang="en-US" sz="23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1368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No compression = huge file sizes, but best quality</a:t>
                      </a:r>
                      <a:endParaRPr b="0" lang="en-US" sz="23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13680">
                      <a:solidFill>
                        <a:srgbClr val="29292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"/>
          <p:cNvSpPr/>
          <p:nvPr/>
        </p:nvSpPr>
        <p:spPr>
          <a:xfrm>
            <a:off x="304920" y="6095880"/>
            <a:ext cx="82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Verdana"/>
              </a:rPr>
              <a:t>Adapted from </a:t>
            </a:r>
            <a:r>
              <a:rPr b="0" i="1" lang="en-US" sz="2000" spc="-1" strike="noStrike">
                <a:solidFill>
                  <a:srgbClr val="292929"/>
                </a:solidFill>
                <a:latin typeface="Verdana"/>
              </a:rPr>
              <a:t>Flash MX Bible 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ssues with sou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2c2c62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ynch problems – kicker solution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2c2c62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lash MX (previous version)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2c2c62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Event vs. Stream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trolling sound with ActionScrip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251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rial"/>
              </a:rPr>
              <a:t>//creates a new sound object in Action Script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251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mySound = 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new Sound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();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251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rial"/>
              </a:rPr>
              <a:t>//tells it to pull up the library member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251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rial"/>
              </a:rPr>
              <a:t>//with the linkage name "music"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251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mySound.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attachSound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"music"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);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251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rial"/>
              </a:rPr>
              <a:t>//tells it to play from the beginning, and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251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rial"/>
              </a:rPr>
              <a:t>//loop 20,000 times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251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mySound.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tart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(0, 20000);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251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rial"/>
              </a:rPr>
              <a:t>//tells the sound to stop playing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251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mySound.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top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();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ading external .swf fi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rial"/>
              </a:rPr>
              <a:t>//creates a movie clip placeholder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myClip = </a:t>
            </a:r>
            <a:r>
              <a:rPr b="0" lang="en-US" sz="2800" spc="-1" strike="noStrike">
                <a:solidFill>
                  <a:srgbClr val="2c2c62"/>
                </a:solidFill>
                <a:latin typeface="Arial"/>
              </a:rPr>
              <a:t>this.createEmptyMovieClip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“myClip”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, 0);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rial"/>
              </a:rPr>
              <a:t>//attaches .swf to movie clip placeholder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c2c62"/>
                </a:solidFill>
                <a:latin typeface="Arial"/>
              </a:rPr>
              <a:t>loadMovie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“swfName.swf”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, myClip);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rial"/>
              </a:rPr>
              <a:t>//plays movie clip (and thus plays .swf inside)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myClip.</a:t>
            </a:r>
            <a:r>
              <a:rPr b="0" lang="en-US" sz="2800" spc="-1" strike="noStrike">
                <a:solidFill>
                  <a:srgbClr val="2c2c62"/>
                </a:solidFill>
                <a:latin typeface="Arial"/>
              </a:rPr>
              <a:t>play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();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5T20:32:52Z</dcterms:created>
  <dc:creator>aew2</dc:creator>
  <dc:description/>
  <dc:language>en-US</dc:language>
  <cp:lastModifiedBy>Andy Walker</cp:lastModifiedBy>
  <dcterms:modified xsi:type="dcterms:W3CDTF">2006-03-15T18:52:32Z</dcterms:modified>
  <cp:revision>389</cp:revision>
  <dc:subject/>
  <dc:title>Delphi Surveys:  An Alternative Approach to Needs Assessment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166617349</vt:r8>
  </property>
  <property fmtid="{D5CDD505-2E9C-101B-9397-08002B2CF9AE}" pid="3" name="_AuthorEmail">
    <vt:lpwstr>jennifer.m.brill@lehigh.edu</vt:lpwstr>
  </property>
  <property fmtid="{D5CDD505-2E9C-101B-9397-08002B2CF9AE}" pid="4" name="_AuthorEmailDisplayName">
    <vt:lpwstr>Jennifer M. Brill</vt:lpwstr>
  </property>
  <property fmtid="{D5CDD505-2E9C-101B-9397-08002B2CF9AE}" pid="5" name="_EmailSubject">
    <vt:lpwstr>ISPI Presentation FINAL</vt:lpwstr>
  </property>
  <property fmtid="{D5CDD505-2E9C-101B-9397-08002B2CF9AE}" pid="6" name="_PreviousAdHocReviewCycleID">
    <vt:r8>856869919</vt:r8>
  </property>
  <property fmtid="{D5CDD505-2E9C-101B-9397-08002B2CF9AE}" pid="7" name="_ReviewingToolsShownOnce">
    <vt:lpwstr/>
  </property>
</Properties>
</file>