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E9F-2D3B-4243-A363-CC07BCBA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3B7-3FA5-46C5-86A1-083AE6B0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5FD-397B-4297-8C8E-90361156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508-EEFF-42CE-A280-41914B38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ECC3-F838-49D8-84B9-4EB9FF5F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BAE2-99AB-4F42-8873-98494BA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F739-A821-411D-8288-63633E6D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10D0-5BE3-4E2C-BFBD-A6CDBDDB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5EF4-E8F6-4646-9F92-D284057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3BFF-AB7F-4D99-A3D8-2B66B092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2144-4211-42B5-8BA0-96304D6D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862-1A0D-478A-A274-283BBF25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0DBD-41B1-4B4E-8729-392F49D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239F-D087-496E-AE6E-64DB54E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06CC-EFF1-4097-A3A2-9DBACBF5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83CE-0A7D-421D-B5A0-62248C46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38FB-D75C-4FA9-824B-27005176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66A-073F-4C1D-9009-A4C85545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01A-F825-4FAD-BA65-FC59FDDC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EDB-5C97-4BA9-A923-629A840C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562-7793-4CF0-B035-C8C0E7D4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6D3-0815-4DD7-B4E5-BB56278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04E-39B9-41A6-A060-C64BE02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9A1-D85A-4869-8B59-74D3BD5D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E70E-22F1-4640-8A4C-BC0B274E5F8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32BA-884E-4FA5-A2CD-DB72CC80E69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luid.com/experiments/timecode/mx_time.html" TargetMode="External"/><Relationship Id="rId2" Type="http://schemas.openxmlformats.org/officeDocument/2006/relationships/hyperlink" Target="http://www.fluid.com/experiments/timecode/mx_time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k bott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rame r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asement (review &amp; demo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uide path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mbols (focus on graphic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ymbols get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use, reuse, reu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ngle edit poi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un-time efficienc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n manipulate with ActionScrip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mbols vs. Symbol Instan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lueprint Metapho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on an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ppropriate frame ra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12 fps – inclus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20 fps – high en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26 fps – max*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benchmark 24/30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as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uide lay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Tween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playgrou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ion ski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ey frame (a list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weens” (b list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vist ball examp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4290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ion skinning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05120" y="1676520"/>
          <a:ext cx="674208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674208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1523880" y="2971800"/>
            <a:ext cx="2286000" cy="8380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6576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nion sk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2819160"/>
            <a:ext cx="3124080" cy="19047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72428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nion outlin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24080" y="2819160"/>
            <a:ext cx="2971800" cy="24382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160" y="533412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edit multiple fram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15000" y="2742840"/>
            <a:ext cx="1600200" cy="297180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9280" y="579132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Modify onion marke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aphi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utt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vie cli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seud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2-03T17:32:17Z</dcterms:modified>
  <cp:revision>326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