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FD2-774F-4376-B2E0-A27F1F85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6CB-CA3D-4F2B-A266-B023402D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CD0-E1B0-4851-A84C-5C939E20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F82-4EBB-49D8-A39C-868F2C1D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E0AA-D02F-4D84-8C2E-88D0AAB2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03A-3A43-4319-84D1-A7246C0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046B-89FE-47B5-9EC3-38F6F81D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0723-6C4A-469A-A406-92C5B32B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6A58-8A86-425F-B492-45AAD422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6E1-E174-48B1-8696-F91C0AA4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C6D9-6C4B-4D19-B5F3-89662CF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BCD-B731-4EB4-B2F8-F93F92F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E7A-3441-4EC8-A67A-C7F9C7BB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1126-C13D-4DF3-9020-C8F7B48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FED9-96F3-4A12-83B1-D70A5A9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FAA-3E70-4F9F-A490-D3DF1823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3479-FFCB-489F-A9DD-87574B09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684-947D-4044-B542-EDAF318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193-94AD-4A08-96CD-CD8C496D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9BB-82FA-4B36-9B56-9CBD213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50D-1161-488D-9609-E7D4CF6E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C1E-0FD0-4C3C-BC8C-7EC9461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2FB-E187-43E1-870F-5E78D1D3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323-DB8C-4EC5-8F78-913D5168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34D-148D-4400-84C9-E65A6434593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F475-D0C7-451B-9A73-D06EFAE37AA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ing variab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trol structures (if statement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currentfram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propert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brary fol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be extended (nest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achelSwimLessons</a:t>
            </a:r>
            <a:r>
              <a:rPr b="0" lang="en-US" sz="2800" spc="-1" strike="noStrike">
                <a:solidFill>
                  <a:srgbClr val="42429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424294"/>
                </a:solidFill>
                <a:latin typeface="Arial"/>
              </a:rPr>
              <a:t> fals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94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rachelMood ==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brave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24294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weather !=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thunder and lightning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24294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ool ==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open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achelSwimLessons = </a:t>
            </a:r>
            <a:r>
              <a:rPr b="0" lang="en-US" sz="2800" spc="-1" strike="noStrike">
                <a:solidFill>
                  <a:srgbClr val="424294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for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brary fol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yer fol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aceholders for informatio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lash Card analogy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lash is a typeless languag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lash syntax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riable = valu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sh Card Ana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3429000"/>
            <a:ext cx="2819160" cy="838080"/>
          </a:xfrm>
          <a:prstGeom prst="parallelogram">
            <a:avLst>
              <a:gd name="adj" fmla="val 84096"/>
            </a:avLst>
          </a:prstGeom>
          <a:solidFill>
            <a:srgbClr val="a5a5d7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serNam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2819520" cy="838080"/>
          </a:xfrm>
          <a:prstGeom prst="parallelogram">
            <a:avLst>
              <a:gd name="adj" fmla="val 84107"/>
            </a:avLst>
          </a:prstGeom>
          <a:solidFill>
            <a:srgbClr val="ff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952880"/>
            <a:ext cx="2819520" cy="838440"/>
          </a:xfrm>
          <a:prstGeom prst="parallelogram">
            <a:avLst>
              <a:gd name="adj" fmla="val 84070"/>
            </a:avLst>
          </a:prstGeom>
          <a:solidFill>
            <a:srgbClr val="ff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am Walker”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88620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267080"/>
            <a:ext cx="1143000" cy="990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kind of control structure (conditions/loops)*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mething we use every da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lash syntax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 this will run if condition is tru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28600"/>
          <a:ext cx="4952880" cy="6178680"/>
        </p:xfrm>
        <a:graphic>
          <a:graphicData uri="http://schemas.openxmlformats.org/drawingml/2006/table">
            <a:tbl>
              <a:tblPr/>
              <a:tblGrid>
                <a:gridCol w="1981080"/>
                <a:gridCol w="2971800"/>
              </a:tblGrid>
              <a:tr h="44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Comparison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Courier New"/>
                          <a:ea typeface="Courier New"/>
                        </a:rPr>
                        <a:t>&lt;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Less than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Courier New"/>
                          <a:ea typeface="Courier New"/>
                        </a:rPr>
                        <a:t>&gt;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Greater than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Courier New"/>
                          <a:ea typeface="Courier New"/>
                        </a:rPr>
                        <a:t>&lt;=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Less than or equal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Courier New"/>
                          <a:ea typeface="Courier New"/>
                        </a:rPr>
                        <a:t>&gt;=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Greater than or equal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Logical</a:t>
                      </a: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&amp;&amp;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Logical AND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||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Logical OR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!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Logical NOT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Equality</a:t>
                      </a: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==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Equality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===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Strict equality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!=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Inequality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Courier New"/>
                        </a:rPr>
                        <a:t>!==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Strict inequality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_currentfram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&gt; startPictureFrame)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vFram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in MLK proj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wo option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// Best for one line com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/* If you want to have more than one line, then you can use this sty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r a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any lin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y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eed */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rol-&gt;Debug Movi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ts you watch variable values (and properties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kinds of error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ther option: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c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754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be extended (else/if and el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2133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userChoice == 1)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otoAndSto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correctFeedback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se if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(userChoice == 2)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otoAndSto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incorrectFeedback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otoAndSto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invalidFeedback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2-03T20:17:51Z</dcterms:modified>
  <cp:revision>336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